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1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14B-4C9F-4EE6-B27C-C5552AEF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7EC-7B37-4145-9F8D-92EFF0B3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819-834E-457E-BE5C-93D2F712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72E-04FC-4703-B00C-175FE868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AC3D-51DC-4F69-8ED0-4287398A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D273-643E-4903-A6E7-91723E9F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CC80-1D01-4AD6-8C0F-67A3A030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A918-3590-449D-B194-1B2B5037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69CE-D83B-490C-B529-2ECE9608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4519-9D0C-4938-B285-4222278F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929F-69DC-4AD1-9847-6E8E6BAB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7F9-580C-4C15-AC2B-577CF38D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95CD-6A0B-46DB-A76C-5A75C023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3F54-CCE1-488B-8A50-B745ED00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3D84-4B97-4EBB-8FB5-AA8B2BB0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9E80-BDAD-4338-8EC9-885B2D36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859D-65B0-4BB2-B368-77456BC0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79B-73A0-414E-9C48-97E6F370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68A-EFFC-4E31-94AC-F7F199FA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803-F204-4A18-926F-083A1B05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B04-F691-4E9C-845C-0ECA98D5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77B-F000-435A-8412-1BDA1F39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61F-0C33-43BF-B043-D05068E2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322-6A15-48B2-97EB-2445191B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A6B7-A04A-4079-9BE2-E1C8F42E401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A239-84A9-4B8B-8AD8-E4EE6FE334DA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isabel.ramos@lsi.us.es" TargetMode="External"/><Relationship Id="rId2" Type="http://schemas.openxmlformats.org/officeDocument/2006/relationships/hyperlink" Target="mailto:isabel.ramos@lsi.us.es" TargetMode="External"/><Relationship Id="rId3" Type="http://schemas.openxmlformats.org/officeDocument/2006/relationships/hyperlink" Target="mailto:aroba@diesia.uhu.es" TargetMode="External"/><Relationship Id="rId4" Type="http://schemas.openxmlformats.org/officeDocument/2006/relationships/hyperlink" Target="mailto:aroba@diesia.uhu.es" TargetMode="External"/><Relationship Id="rId5" Type="http://schemas.openxmlformats.org/officeDocument/2006/relationships/hyperlink" Target="mailto:riquelme@lsi.us.es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78963"/>
                </a:solidFill>
                <a:latin typeface="Times New Roman"/>
              </a:rPr>
              <a:t>AVANCES EN LA TOMA DE DECISIONES</a:t>
            </a:r>
            <a:br>
              <a:rPr sz="2800"/>
            </a:br>
            <a:r>
              <a:rPr b="1" lang="en-GB" sz="2800" spc="-1" strike="noStrike">
                <a:solidFill>
                  <a:srgbClr val="578963"/>
                </a:solidFill>
                <a:latin typeface="Times New Roman"/>
              </a:rPr>
              <a:t> EN PROYECTOS DE </a:t>
            </a:r>
            <a:br>
              <a:rPr sz="2800"/>
            </a:br>
            <a:r>
              <a:rPr b="1" lang="en-GB" sz="2800" spc="-1" strike="noStrike">
                <a:solidFill>
                  <a:srgbClr val="578963"/>
                </a:solidFill>
                <a:latin typeface="Times New Roman"/>
              </a:rPr>
              <a:t>DESARROLLO DE SOFTWARE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733920"/>
            <a:ext cx="8458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Javier Aroba</a:t>
            </a:r>
            <a:r>
              <a:rPr b="0" lang="es-ES_tradnl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_tradnl" sz="10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333333"/>
                </a:solidFill>
                <a:latin typeface="Times New Roman"/>
              </a:rPr>
              <a:t> / Isabel Ramos  / Jose C. Riquelme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33"/>
                </a:solidFill>
                <a:latin typeface="Times New Roman"/>
              </a:rPr>
              <a:t>Departamento de Lenguajes y Sistemas Informátic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33"/>
                </a:solidFill>
                <a:latin typeface="Times New Roman"/>
              </a:rPr>
              <a:t>Universidad de Sevilla  /  Universidad de Huelva </a:t>
            </a:r>
            <a:r>
              <a:rPr b="1" lang="es-ES_tradnl" sz="9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8963"/>
                </a:solidFill>
                <a:latin typeface="Times New Roman"/>
              </a:rPr>
              <a:t>Subproyecto Heracle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5562720"/>
          <a:ext cx="8888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562720"/>
                    <a:ext cx="8888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21956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191120" y="25146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90" name="DIESIA" descr=""/>
          <p:cNvPicPr/>
          <p:nvPr/>
        </p:nvPicPr>
        <p:blipFill>
          <a:blip r:embed="rId4"/>
          <a:stretch/>
        </p:blipFill>
        <p:spPr>
          <a:xfrm>
            <a:off x="7848720" y="5638680"/>
            <a:ext cx="577800" cy="838440"/>
          </a:xfrm>
          <a:prstGeom prst="rect">
            <a:avLst/>
          </a:prstGeom>
          <a:ln w="0">
            <a:noFill/>
          </a:ln>
        </p:spPr>
      </p:pic>
      <p:pic>
        <p:nvPicPr>
          <p:cNvPr id="91" name="Heracles2" descr=""/>
          <p:cNvPicPr/>
          <p:nvPr/>
        </p:nvPicPr>
        <p:blipFill>
          <a:blip r:embed="rId5"/>
          <a:stretch/>
        </p:blipFill>
        <p:spPr>
          <a:xfrm>
            <a:off x="4038480" y="5486400"/>
            <a:ext cx="754200" cy="762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4c2b"/>
                </a:solidFill>
                <a:latin typeface="Times New Roman"/>
              </a:rPr>
              <a:t>Reglas borrosas: Fuzzy Clustering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762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buClr>
                <a:srgbClr val="3333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Algoritmo FCM :Metodología de Sugeno and Yasukaw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440" y="28465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0" y="1523880"/>
            <a:ext cx="7848720" cy="5131080"/>
            <a:chOff x="0" y="1523880"/>
            <a:chExt cx="7848720" cy="5131080"/>
          </a:xfrm>
        </p:grpSpPr>
        <p:sp>
          <p:nvSpPr>
            <p:cNvPr id="273" name=""/>
            <p:cNvSpPr/>
            <p:nvPr/>
          </p:nvSpPr>
          <p:spPr>
            <a:xfrm>
              <a:off x="7238880" y="2438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15200" y="2844720"/>
              <a:ext cx="533520" cy="0"/>
            </a:xfrm>
            <a:prstGeom prst="line">
              <a:avLst/>
            </a:prstGeom>
            <a:ln cap="sq"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81080" y="5054760"/>
              <a:ext cx="1752840" cy="177480"/>
            </a:xfrm>
            <a:custGeom>
              <a:avLst/>
              <a:gdLst/>
              <a:ahLst/>
              <a:rect l="l" t="t" r="r" b="b"/>
              <a:pathLst>
                <a:path w="1104" h="112">
                  <a:moveTo>
                    <a:pt x="0" y="48"/>
                  </a:moveTo>
                  <a:cubicBezTo>
                    <a:pt x="76" y="68"/>
                    <a:pt x="152" y="88"/>
                    <a:pt x="288" y="96"/>
                  </a:cubicBezTo>
                  <a:cubicBezTo>
                    <a:pt x="424" y="104"/>
                    <a:pt x="680" y="112"/>
                    <a:pt x="816" y="96"/>
                  </a:cubicBezTo>
                  <a:cubicBezTo>
                    <a:pt x="952" y="80"/>
                    <a:pt x="1028" y="40"/>
                    <a:pt x="1104" y="0"/>
                  </a:cubicBezTo>
                </a:path>
              </a:pathLst>
            </a:custGeom>
            <a:noFill/>
            <a:ln w="158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980720" y="2844720"/>
              <a:ext cx="685800" cy="2210040"/>
            </a:xfrm>
            <a:prstGeom prst="line">
              <a:avLst/>
            </a:prstGeom>
            <a:ln cap="rnd" w="1260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733920" y="2844720"/>
              <a:ext cx="914400" cy="2133720"/>
            </a:xfrm>
            <a:prstGeom prst="line">
              <a:avLst/>
            </a:prstGeom>
            <a:ln cap="rnd" w="1260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66880" y="1523880"/>
              <a:ext cx="1981440" cy="1320840"/>
            </a:xfrm>
            <a:custGeom>
              <a:avLst/>
              <a:gdLst/>
              <a:ahLst/>
              <a:rect l="l" t="t" r="r" b="b"/>
              <a:pathLst>
                <a:path w="1248" h="832">
                  <a:moveTo>
                    <a:pt x="0" y="832"/>
                  </a:moveTo>
                  <a:cubicBezTo>
                    <a:pt x="144" y="556"/>
                    <a:pt x="288" y="280"/>
                    <a:pt x="432" y="160"/>
                  </a:cubicBezTo>
                  <a:cubicBezTo>
                    <a:pt x="576" y="40"/>
                    <a:pt x="728" y="0"/>
                    <a:pt x="864" y="112"/>
                  </a:cubicBezTo>
                  <a:cubicBezTo>
                    <a:pt x="1000" y="224"/>
                    <a:pt x="1124" y="528"/>
                    <a:pt x="1248" y="832"/>
                  </a:cubicBezTo>
                </a:path>
              </a:pathLst>
            </a:custGeom>
            <a:solidFill>
              <a:srgbClr val="a9bda9"/>
            </a:solidFill>
            <a:ln cap="sq"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5664240"/>
              <a:ext cx="1676520" cy="990720"/>
            </a:xfrm>
            <a:custGeom>
              <a:avLst/>
              <a:gdLst/>
              <a:ahLst/>
              <a:rect l="l" t="t" r="r" b="b"/>
              <a:pathLst>
                <a:path w="1056" h="624">
                  <a:moveTo>
                    <a:pt x="0" y="624"/>
                  </a:moveTo>
                  <a:cubicBezTo>
                    <a:pt x="248" y="312"/>
                    <a:pt x="496" y="0"/>
                    <a:pt x="672" y="0"/>
                  </a:cubicBezTo>
                  <a:cubicBezTo>
                    <a:pt x="848" y="0"/>
                    <a:pt x="952" y="312"/>
                    <a:pt x="1056" y="624"/>
                  </a:cubicBezTo>
                </a:path>
              </a:pathLst>
            </a:custGeom>
            <a:solidFill>
              <a:srgbClr val="ccffff"/>
            </a:solidFill>
            <a:ln cap="sq"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9360" y="3733920"/>
              <a:ext cx="482760" cy="1396800"/>
            </a:xfrm>
            <a:custGeom>
              <a:avLst/>
              <a:gdLst/>
              <a:ahLst/>
              <a:rect l="l" t="t" r="r" b="b"/>
              <a:pathLst>
                <a:path w="304" h="696">
                  <a:moveTo>
                    <a:pt x="160" y="696"/>
                  </a:moveTo>
                  <a:cubicBezTo>
                    <a:pt x="96" y="488"/>
                    <a:pt x="32" y="280"/>
                    <a:pt x="16" y="168"/>
                  </a:cubicBezTo>
                  <a:cubicBezTo>
                    <a:pt x="0" y="56"/>
                    <a:pt x="16" y="0"/>
                    <a:pt x="64" y="24"/>
                  </a:cubicBezTo>
                  <a:cubicBezTo>
                    <a:pt x="112" y="48"/>
                    <a:pt x="208" y="180"/>
                    <a:pt x="304" y="312"/>
                  </a:cubicBezTo>
                </a:path>
              </a:pathLst>
            </a:custGeom>
            <a:solidFill>
              <a:srgbClr val="bdd7e5"/>
            </a:solidFill>
            <a:ln cap="sq"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2286000"/>
              <a:ext cx="990360" cy="1066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066680" y="5130720"/>
              <a:ext cx="914400" cy="1524240"/>
            </a:xfrm>
            <a:prstGeom prst="line">
              <a:avLst/>
            </a:prstGeom>
            <a:ln cap="rnd" w="1260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47920" y="2844720"/>
              <a:ext cx="6095880" cy="0"/>
            </a:xfrm>
            <a:prstGeom prst="line">
              <a:avLst/>
            </a:prstGeom>
            <a:ln cap="sq"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76520" y="1523880"/>
              <a:ext cx="3962160" cy="1320840"/>
            </a:xfrm>
            <a:custGeom>
              <a:avLst/>
              <a:gdLst/>
              <a:ahLst/>
              <a:rect l="l" t="t" r="r" b="b"/>
              <a:pathLst>
                <a:path w="2496" h="832">
                  <a:moveTo>
                    <a:pt x="0" y="832"/>
                  </a:moveTo>
                  <a:cubicBezTo>
                    <a:pt x="168" y="552"/>
                    <a:pt x="336" y="272"/>
                    <a:pt x="480" y="160"/>
                  </a:cubicBezTo>
                  <a:cubicBezTo>
                    <a:pt x="624" y="48"/>
                    <a:pt x="736" y="48"/>
                    <a:pt x="864" y="160"/>
                  </a:cubicBezTo>
                  <a:cubicBezTo>
                    <a:pt x="992" y="272"/>
                    <a:pt x="1104" y="832"/>
                    <a:pt x="1248" y="832"/>
                  </a:cubicBezTo>
                  <a:cubicBezTo>
                    <a:pt x="1392" y="832"/>
                    <a:pt x="1584" y="280"/>
                    <a:pt x="1728" y="160"/>
                  </a:cubicBezTo>
                  <a:cubicBezTo>
                    <a:pt x="1872" y="40"/>
                    <a:pt x="1984" y="0"/>
                    <a:pt x="2112" y="112"/>
                  </a:cubicBezTo>
                  <a:cubicBezTo>
                    <a:pt x="2240" y="224"/>
                    <a:pt x="2368" y="528"/>
                    <a:pt x="2496" y="832"/>
                  </a:cubicBezTo>
                </a:path>
              </a:pathLst>
            </a:custGeom>
            <a:noFill/>
            <a:ln w="12600">
              <a:solidFill>
                <a:srgbClr val="3333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523880" y="3530520"/>
              <a:ext cx="3657600" cy="1905120"/>
            </a:xfrm>
            <a:prstGeom prst="rect">
              <a:avLst/>
            </a:prstGeom>
            <a:noFill/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81080" y="3873600"/>
              <a:ext cx="1752840" cy="1257120"/>
            </a:xfrm>
            <a:custGeom>
              <a:avLst/>
              <a:gdLst/>
              <a:ahLst/>
              <a:rect l="l" t="t" r="r" b="b"/>
              <a:pathLst>
                <a:path w="1056" h="744">
                  <a:moveTo>
                    <a:pt x="0" y="744"/>
                  </a:moveTo>
                  <a:cubicBezTo>
                    <a:pt x="40" y="720"/>
                    <a:pt x="80" y="696"/>
                    <a:pt x="144" y="600"/>
                  </a:cubicBezTo>
                  <a:cubicBezTo>
                    <a:pt x="208" y="504"/>
                    <a:pt x="288" y="256"/>
                    <a:pt x="384" y="168"/>
                  </a:cubicBezTo>
                  <a:cubicBezTo>
                    <a:pt x="480" y="80"/>
                    <a:pt x="632" y="0"/>
                    <a:pt x="720" y="72"/>
                  </a:cubicBezTo>
                  <a:cubicBezTo>
                    <a:pt x="808" y="144"/>
                    <a:pt x="856" y="496"/>
                    <a:pt x="912" y="600"/>
                  </a:cubicBezTo>
                  <a:cubicBezTo>
                    <a:pt x="968" y="704"/>
                    <a:pt x="1012" y="700"/>
                    <a:pt x="1056" y="696"/>
                  </a:cubicBezTo>
                </a:path>
              </a:pathLst>
            </a:custGeom>
            <a:noFill/>
            <a:ln w="158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43200" y="4368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16257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spacio de Salida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4120" y="383544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spacio de Entrada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48320" y="3606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05320" y="185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04920" y="3301920"/>
              <a:ext cx="914400" cy="2362320"/>
            </a:xfrm>
            <a:prstGeom prst="line">
              <a:avLst/>
            </a:prstGeom>
            <a:ln cap="sq"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9480" y="6654960"/>
              <a:ext cx="4419720" cy="0"/>
            </a:xfrm>
            <a:prstGeom prst="line">
              <a:avLst/>
            </a:prstGeom>
            <a:ln cap="sq"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8320" y="61722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9480" y="3301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09400" y="5130720"/>
              <a:ext cx="1471320" cy="0"/>
            </a:xfrm>
            <a:prstGeom prst="line">
              <a:avLst/>
            </a:prstGeom>
            <a:ln cap="rnd" w="1260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62120" y="4419720"/>
              <a:ext cx="1689120" cy="0"/>
            </a:xfrm>
            <a:prstGeom prst="line">
              <a:avLst/>
            </a:prstGeom>
            <a:ln cap="rnd" w="1260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743200" y="5105520"/>
              <a:ext cx="914400" cy="1504800"/>
            </a:xfrm>
            <a:prstGeom prst="line">
              <a:avLst/>
            </a:prstGeom>
            <a:ln cap="rnd" w="12600">
              <a:solidFill>
                <a:srgbClr val="3333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120" y="1981080"/>
              <a:ext cx="761760" cy="228600"/>
            </a:xfrm>
            <a:prstGeom prst="line">
              <a:avLst/>
            </a:prstGeom>
            <a:ln cap="sq"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486040" y="4191120"/>
              <a:ext cx="685800" cy="228600"/>
            </a:xfrm>
            <a:prstGeom prst="line">
              <a:avLst/>
            </a:prstGeom>
            <a:ln cap="sq"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la de Gestión Borrosa obtenida a partir de una base de datos cuantitativa con 4 parámetros de entrada y 1 de salida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144792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76520" y="838080"/>
            <a:ext cx="6933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buClr>
                <a:srgbClr val="333333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Resultados  (1 salida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04" name="regla1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7974000" cy="14540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57200" y="39625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19240" indent="-2192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 el PDS, tendremos un Tiempo de Desarrollo bajo cuando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19240" indent="-2192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-3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4c2b"/>
                </a:solidFill>
                <a:latin typeface="Times New Roman"/>
              </a:rPr>
              <a:t>Reglas borrosas: Fuzzy Clustering 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28600" y="4800600"/>
            <a:ext cx="8534520" cy="1599120"/>
            <a:chOff x="228600" y="4800600"/>
            <a:chExt cx="8534520" cy="1599120"/>
          </a:xfrm>
        </p:grpSpPr>
        <p:sp>
          <p:nvSpPr>
            <p:cNvPr id="308" name=""/>
            <p:cNvSpPr/>
            <p:nvPr/>
          </p:nvSpPr>
          <p:spPr>
            <a:xfrm>
              <a:off x="228600" y="4952880"/>
              <a:ext cx="8534520" cy="1295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4920" y="4800600"/>
              <a:ext cx="8153280" cy="15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just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578963"/>
                  </a:solidFill>
                  <a:latin typeface="Times New Roman"/>
                </a:rPr>
                <a:t>“</a:t>
              </a:r>
              <a:r>
                <a:rPr b="1" lang="es-ES_tradnl" sz="1800" spc="-1" strike="noStrike">
                  <a:solidFill>
                    <a:srgbClr val="578963"/>
                  </a:solidFill>
                  <a:latin typeface="Times New Roman"/>
                </a:rPr>
                <a:t>La dedicación de los técnicos tome valores medios-alto, el retraso en la adecuación de los técnicos bajos, el retraso en la incorporación de los técnicos medios y el retraso en la salida de técnicos medios-alto”  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just">
                <a:spcBef>
                  <a:spcPts val="601"/>
                </a:spcBef>
                <a:spcAft>
                  <a:spcPts val="601"/>
                </a:spcAft>
                <a:buClr>
                  <a:srgbClr val="578963"/>
                </a:buClr>
                <a:buFont typeface="Monotype Sorts" charset="2"/>
                <a:buChar char="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382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la de Gestión Borrosa obtenida a partir de una base de datos cuantitativa con 6 parámetros de entrada y 2 de salida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838080"/>
            <a:ext cx="7467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buClr>
                <a:srgbClr val="333333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Resultados (N-Salida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3" name="regla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7850160" cy="1424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04920" y="388620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 el PDS, tendremos u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s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dio y u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uy bajo cuando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-3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4c2b"/>
                </a:solidFill>
                <a:latin typeface="Times New Roman"/>
              </a:rPr>
              <a:t>Reglas borrosas: Fuzzy Clustering 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80880" y="4876920"/>
            <a:ext cx="8458200" cy="1523880"/>
            <a:chOff x="380880" y="4876920"/>
            <a:chExt cx="8458200" cy="1523880"/>
          </a:xfrm>
        </p:grpSpPr>
        <p:sp>
          <p:nvSpPr>
            <p:cNvPr id="317" name=""/>
            <p:cNvSpPr/>
            <p:nvPr/>
          </p:nvSpPr>
          <p:spPr>
            <a:xfrm>
              <a:off x="380880" y="4876920"/>
              <a:ext cx="8458200" cy="15238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7200" y="4952880"/>
              <a:ext cx="8305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578963"/>
                  </a:solidFill>
                  <a:latin typeface="Times New Roman"/>
                </a:rPr>
                <a:t>“</a:t>
              </a:r>
              <a:r>
                <a:rPr b="1" lang="es-ES_tradnl" sz="2000" spc="-1" strike="noStrike">
                  <a:solidFill>
                    <a:srgbClr val="578963"/>
                  </a:solidFill>
                  <a:latin typeface="Times New Roman"/>
                </a:rPr>
                <a:t>La dedicación media de los técnicos y la dedicación a formación tomen valores medios, la infraestimación del esfuerzo bajos, la infraestimación del número de tareas y la infraestimación de técnicos medios-alto y el retraso en la contratación bajos</a:t>
              </a:r>
              <a:r>
                <a:rPr b="1" i="1" lang="es-ES_tradnl" sz="2000" spc="-1" strike="noStrike">
                  <a:solidFill>
                    <a:srgbClr val="578963"/>
                  </a:solidFill>
                  <a:latin typeface="Times New Roman"/>
                </a:rPr>
                <a:t>”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4c2b"/>
                </a:solidFill>
                <a:latin typeface="Times New Roman"/>
              </a:rPr>
              <a:t>Reglas borrosas: Fuzzy Clustering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762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buClr>
                <a:srgbClr val="3333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Proyecciones Múltiples: Montículo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440" y="28465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2388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2844720"/>
            <a:ext cx="533520" cy="0"/>
          </a:xfrm>
          <a:prstGeom prst="line">
            <a:avLst/>
          </a:prstGeom>
          <a:ln cap="sq"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5054760"/>
            <a:ext cx="1752840" cy="177480"/>
          </a:xfrm>
          <a:custGeom>
            <a:avLst/>
            <a:gdLst/>
            <a:ahLst/>
            <a:rect l="l" t="t" r="r" b="b"/>
            <a:pathLst>
              <a:path w="1104" h="112">
                <a:moveTo>
                  <a:pt x="0" y="48"/>
                </a:moveTo>
                <a:cubicBezTo>
                  <a:pt x="76" y="68"/>
                  <a:pt x="152" y="88"/>
                  <a:pt x="288" y="96"/>
                </a:cubicBezTo>
                <a:cubicBezTo>
                  <a:pt x="424" y="104"/>
                  <a:pt x="680" y="112"/>
                  <a:pt x="816" y="96"/>
                </a:cubicBezTo>
                <a:cubicBezTo>
                  <a:pt x="952" y="80"/>
                  <a:pt x="1028" y="40"/>
                  <a:pt x="1104" y="0"/>
                </a:cubicBezTo>
              </a:path>
            </a:pathLst>
          </a:custGeom>
          <a:noFill/>
          <a:ln w="158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980720" y="2844720"/>
            <a:ext cx="685800" cy="221004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733920" y="2844720"/>
            <a:ext cx="914400" cy="213372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66880" y="1523880"/>
            <a:ext cx="1981440" cy="1320840"/>
          </a:xfrm>
          <a:custGeom>
            <a:avLst/>
            <a:gdLst/>
            <a:ahLst/>
            <a:rect l="l" t="t" r="r" b="b"/>
            <a:pathLst>
              <a:path w="1248" h="832">
                <a:moveTo>
                  <a:pt x="0" y="832"/>
                </a:moveTo>
                <a:cubicBezTo>
                  <a:pt x="144" y="556"/>
                  <a:pt x="288" y="280"/>
                  <a:pt x="432" y="160"/>
                </a:cubicBezTo>
                <a:cubicBezTo>
                  <a:pt x="576" y="40"/>
                  <a:pt x="728" y="0"/>
                  <a:pt x="864" y="112"/>
                </a:cubicBezTo>
                <a:cubicBezTo>
                  <a:pt x="1000" y="224"/>
                  <a:pt x="1124" y="528"/>
                  <a:pt x="1248" y="832"/>
                </a:cubicBezTo>
              </a:path>
            </a:pathLst>
          </a:custGeom>
          <a:solidFill>
            <a:srgbClr val="a9bda9"/>
          </a:solidFill>
          <a:ln cap="sq"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5664240"/>
            <a:ext cx="1676520" cy="99072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624"/>
                </a:moveTo>
                <a:cubicBezTo>
                  <a:pt x="248" y="312"/>
                  <a:pt x="496" y="0"/>
                  <a:pt x="672" y="0"/>
                </a:cubicBezTo>
                <a:cubicBezTo>
                  <a:pt x="848" y="0"/>
                  <a:pt x="952" y="312"/>
                  <a:pt x="1056" y="624"/>
                </a:cubicBezTo>
              </a:path>
            </a:pathLst>
          </a:custGeom>
          <a:solidFill>
            <a:srgbClr val="ccffff"/>
          </a:solidFill>
          <a:ln cap="sq"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2286000"/>
            <a:ext cx="990360" cy="106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066680" y="5130720"/>
            <a:ext cx="914400" cy="152424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2844720"/>
            <a:ext cx="609588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76520" y="1523880"/>
            <a:ext cx="3962160" cy="1320840"/>
          </a:xfrm>
          <a:custGeom>
            <a:avLst/>
            <a:gdLst/>
            <a:ahLst/>
            <a:rect l="l" t="t" r="r" b="b"/>
            <a:pathLst>
              <a:path w="2496" h="832">
                <a:moveTo>
                  <a:pt x="0" y="832"/>
                </a:moveTo>
                <a:cubicBezTo>
                  <a:pt x="168" y="552"/>
                  <a:pt x="336" y="272"/>
                  <a:pt x="480" y="160"/>
                </a:cubicBezTo>
                <a:cubicBezTo>
                  <a:pt x="624" y="48"/>
                  <a:pt x="736" y="48"/>
                  <a:pt x="864" y="160"/>
                </a:cubicBezTo>
                <a:cubicBezTo>
                  <a:pt x="992" y="272"/>
                  <a:pt x="1104" y="832"/>
                  <a:pt x="1248" y="832"/>
                </a:cubicBezTo>
                <a:cubicBezTo>
                  <a:pt x="1392" y="832"/>
                  <a:pt x="1584" y="280"/>
                  <a:pt x="1728" y="160"/>
                </a:cubicBezTo>
                <a:cubicBezTo>
                  <a:pt x="1872" y="40"/>
                  <a:pt x="1984" y="0"/>
                  <a:pt x="2112" y="112"/>
                </a:cubicBezTo>
                <a:cubicBezTo>
                  <a:pt x="2240" y="224"/>
                  <a:pt x="2368" y="528"/>
                  <a:pt x="2496" y="832"/>
                </a:cubicBezTo>
              </a:path>
            </a:pathLst>
          </a:custGeom>
          <a:noFill/>
          <a:ln w="12600">
            <a:solidFill>
              <a:srgbClr val="3333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3530520"/>
            <a:ext cx="3657600" cy="1905120"/>
          </a:xfrm>
          <a:prstGeom prst="rect">
            <a:avLst/>
          </a:prstGeom>
          <a:noFill/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3873600"/>
            <a:ext cx="1752840" cy="1257120"/>
          </a:xfrm>
          <a:custGeom>
            <a:avLst/>
            <a:gdLst/>
            <a:ahLst/>
            <a:rect l="l" t="t" r="r" b="b"/>
            <a:pathLst>
              <a:path w="1056" h="744">
                <a:moveTo>
                  <a:pt x="0" y="744"/>
                </a:moveTo>
                <a:cubicBezTo>
                  <a:pt x="40" y="720"/>
                  <a:pt x="80" y="696"/>
                  <a:pt x="144" y="600"/>
                </a:cubicBezTo>
                <a:cubicBezTo>
                  <a:pt x="208" y="504"/>
                  <a:pt x="288" y="256"/>
                  <a:pt x="384" y="168"/>
                </a:cubicBezTo>
                <a:cubicBezTo>
                  <a:pt x="480" y="80"/>
                  <a:pt x="632" y="0"/>
                  <a:pt x="720" y="72"/>
                </a:cubicBezTo>
                <a:cubicBezTo>
                  <a:pt x="808" y="144"/>
                  <a:pt x="856" y="496"/>
                  <a:pt x="912" y="600"/>
                </a:cubicBezTo>
                <a:cubicBezTo>
                  <a:pt x="968" y="704"/>
                  <a:pt x="1012" y="700"/>
                  <a:pt x="1056" y="696"/>
                </a:cubicBezTo>
              </a:path>
            </a:pathLst>
          </a:custGeom>
          <a:noFill/>
          <a:ln w="158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43200" y="43689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16257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pacio de Salid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38354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pacio de Entrad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36068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05320" y="18543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04920" y="3301920"/>
            <a:ext cx="914400" cy="2362320"/>
          </a:xfrm>
          <a:prstGeom prst="line">
            <a:avLst/>
          </a:prstGeom>
          <a:ln cap="sq"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6654960"/>
            <a:ext cx="4419720" cy="0"/>
          </a:xfrm>
          <a:prstGeom prst="line">
            <a:avLst/>
          </a:prstGeom>
          <a:ln cap="sq"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48320" y="6172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3301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09400" y="5130720"/>
            <a:ext cx="1471320" cy="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62120" y="4419720"/>
            <a:ext cx="1689120" cy="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743200" y="5105520"/>
            <a:ext cx="914400" cy="15048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981080"/>
            <a:ext cx="761760" cy="228600"/>
          </a:xfrm>
          <a:prstGeom prst="line">
            <a:avLst/>
          </a:prstGeom>
          <a:ln cap="sq"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486040" y="4191120"/>
            <a:ext cx="685800" cy="228600"/>
          </a:xfrm>
          <a:prstGeom prst="line">
            <a:avLst/>
          </a:prstGeom>
          <a:ln cap="sq"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3708360"/>
            <a:ext cx="1092240" cy="1320840"/>
          </a:xfrm>
          <a:custGeom>
            <a:avLst/>
            <a:gdLst/>
            <a:ahLst/>
            <a:rect l="l" t="t" r="r" b="b"/>
            <a:pathLst>
              <a:path w="688" h="832">
                <a:moveTo>
                  <a:pt x="0" y="208"/>
                </a:moveTo>
                <a:cubicBezTo>
                  <a:pt x="28" y="152"/>
                  <a:pt x="56" y="96"/>
                  <a:pt x="96" y="64"/>
                </a:cubicBezTo>
                <a:cubicBezTo>
                  <a:pt x="136" y="32"/>
                  <a:pt x="192" y="0"/>
                  <a:pt x="240" y="16"/>
                </a:cubicBezTo>
                <a:cubicBezTo>
                  <a:pt x="288" y="32"/>
                  <a:pt x="336" y="64"/>
                  <a:pt x="384" y="160"/>
                </a:cubicBezTo>
                <a:cubicBezTo>
                  <a:pt x="432" y="256"/>
                  <a:pt x="480" y="496"/>
                  <a:pt x="528" y="592"/>
                </a:cubicBezTo>
                <a:cubicBezTo>
                  <a:pt x="576" y="688"/>
                  <a:pt x="656" y="696"/>
                  <a:pt x="672" y="736"/>
                </a:cubicBezTo>
                <a:cubicBezTo>
                  <a:pt x="688" y="776"/>
                  <a:pt x="656" y="804"/>
                  <a:pt x="624" y="832"/>
                </a:cubicBezTo>
              </a:path>
            </a:pathLst>
          </a:custGeom>
          <a:noFill/>
          <a:ln cap="sq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3733560" y="5029200"/>
            <a:ext cx="7596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700440" y="4919400"/>
            <a:ext cx="76320" cy="1522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7080" y="3809880"/>
            <a:ext cx="635040" cy="1371600"/>
          </a:xfrm>
          <a:custGeom>
            <a:avLst/>
            <a:gdLst/>
            <a:ahLst/>
            <a:rect l="l" t="t" r="r" b="b"/>
            <a:pathLst>
              <a:path w="400" h="864">
                <a:moveTo>
                  <a:pt x="208" y="864"/>
                </a:moveTo>
                <a:cubicBezTo>
                  <a:pt x="104" y="600"/>
                  <a:pt x="0" y="336"/>
                  <a:pt x="16" y="288"/>
                </a:cubicBezTo>
                <a:cubicBezTo>
                  <a:pt x="32" y="240"/>
                  <a:pt x="288" y="608"/>
                  <a:pt x="304" y="576"/>
                </a:cubicBezTo>
                <a:cubicBezTo>
                  <a:pt x="320" y="544"/>
                  <a:pt x="136" y="184"/>
                  <a:pt x="112" y="96"/>
                </a:cubicBezTo>
                <a:cubicBezTo>
                  <a:pt x="88" y="8"/>
                  <a:pt x="112" y="0"/>
                  <a:pt x="160" y="48"/>
                </a:cubicBezTo>
                <a:cubicBezTo>
                  <a:pt x="208" y="96"/>
                  <a:pt x="304" y="240"/>
                  <a:pt x="400" y="384"/>
                </a:cubicBezTo>
              </a:path>
            </a:pathLst>
          </a:custGeom>
          <a:solidFill>
            <a:srgbClr val="3366ff"/>
          </a:solidFill>
          <a:ln cap="sq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382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de Gestión Borrosa obtenida a partir de una base de datos cuantitativa con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ámetros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838080"/>
            <a:ext cx="7467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buClr>
                <a:srgbClr val="333333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Regla borrosa con Proyeccion Multip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920" y="37339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 el PDS, tendremos un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ste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medio, un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bajo y una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media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a la vez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cuando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-305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-3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4c2b"/>
                </a:solidFill>
                <a:latin typeface="Times New Roman"/>
              </a:rPr>
              <a:t>Reglas borrosas: Fuzzy Clustering 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398520" y="4876920"/>
            <a:ext cx="8458200" cy="1523880"/>
            <a:chOff x="398520" y="4876920"/>
            <a:chExt cx="8458200" cy="1523880"/>
          </a:xfrm>
        </p:grpSpPr>
        <p:sp>
          <p:nvSpPr>
            <p:cNvPr id="360" name=""/>
            <p:cNvSpPr/>
            <p:nvPr/>
          </p:nvSpPr>
          <p:spPr>
            <a:xfrm>
              <a:off x="398520" y="4876920"/>
              <a:ext cx="8458200" cy="15238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4840" y="4952880"/>
              <a:ext cx="8305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578963"/>
                  </a:solidFill>
                  <a:latin typeface="Times New Roman"/>
                </a:rPr>
                <a:t>“</a:t>
              </a:r>
              <a:r>
                <a:rPr b="0" lang="es-ES_tradnl" sz="2000" spc="-1" strike="noStrike">
                  <a:solidFill>
                    <a:srgbClr val="578963"/>
                  </a:solidFill>
                  <a:latin typeface="Times New Roman"/>
                </a:rPr>
                <a:t>La </a:t>
              </a:r>
              <a:r>
                <a:rPr b="1" lang="es-ES_tradnl" sz="2000" spc="-1" strike="noStrike">
                  <a:solidFill>
                    <a:srgbClr val="578963"/>
                  </a:solidFill>
                  <a:latin typeface="Times New Roman"/>
                </a:rPr>
                <a:t>dedicación</a:t>
              </a:r>
              <a:r>
                <a:rPr b="0" lang="es-ES_tradnl" sz="2000" spc="-1" strike="noStrike">
                  <a:solidFill>
                    <a:srgbClr val="578963"/>
                  </a:solidFill>
                  <a:latin typeface="Times New Roman"/>
                </a:rPr>
                <a:t> media sea algo </a:t>
              </a:r>
              <a:r>
                <a:rPr b="0" i="1" lang="es-ES_tradnl" sz="2000" spc="-1" strike="noStrike">
                  <a:solidFill>
                    <a:srgbClr val="578963"/>
                  </a:solidFill>
                  <a:latin typeface="Times New Roman"/>
                </a:rPr>
                <a:t>mayor de media</a:t>
              </a:r>
              <a:r>
                <a:rPr b="0" lang="es-ES_tradnl" sz="2000" spc="-1" strike="noStrike">
                  <a:solidFill>
                    <a:srgbClr val="578963"/>
                  </a:solidFill>
                  <a:latin typeface="Times New Roman"/>
                </a:rPr>
                <a:t>, la </a:t>
              </a:r>
              <a:r>
                <a:rPr b="1" lang="es-ES_tradnl" sz="2000" spc="-1" strike="noStrike">
                  <a:solidFill>
                    <a:srgbClr val="578963"/>
                  </a:solidFill>
                  <a:latin typeface="Times New Roman"/>
                </a:rPr>
                <a:t>contratación</a:t>
              </a:r>
              <a:r>
                <a:rPr b="0" lang="es-ES_tradnl" sz="2000" spc="-1" strike="noStrike">
                  <a:solidFill>
                    <a:srgbClr val="578963"/>
                  </a:solidFill>
                  <a:latin typeface="Times New Roman"/>
                </a:rPr>
                <a:t> sea </a:t>
              </a:r>
              <a:r>
                <a:rPr b="0" i="1" lang="es-ES_tradnl" sz="2000" spc="-1" strike="noStrike">
                  <a:solidFill>
                    <a:srgbClr val="578963"/>
                  </a:solidFill>
                  <a:latin typeface="Times New Roman"/>
                </a:rPr>
                <a:t>baja</a:t>
              </a:r>
              <a:r>
                <a:rPr b="0" lang="es-ES_tradnl" sz="2000" spc="-1" strike="noStrike">
                  <a:solidFill>
                    <a:srgbClr val="578963"/>
                  </a:solidFill>
                  <a:latin typeface="Times New Roman"/>
                </a:rPr>
                <a:t> </a:t>
              </a:r>
              <a:r>
                <a:rPr b="0" lang="es-ES_tradnl" sz="2000" spc="-1" strike="noStrike" u="sng">
                  <a:solidFill>
                    <a:srgbClr val="578963"/>
                  </a:solidFill>
                  <a:uFillTx/>
                  <a:latin typeface="Times New Roman"/>
                </a:rPr>
                <a:t>O</a:t>
              </a:r>
              <a:r>
                <a:rPr b="0" lang="es-ES_tradnl" sz="2000" spc="-1" strike="noStrike">
                  <a:solidFill>
                    <a:srgbClr val="578963"/>
                  </a:solidFill>
                  <a:latin typeface="Times New Roman"/>
                </a:rPr>
                <a:t> </a:t>
              </a:r>
              <a:r>
                <a:rPr b="0" i="1" lang="es-ES_tradnl" sz="2000" spc="-1" strike="noStrike">
                  <a:solidFill>
                    <a:srgbClr val="578963"/>
                  </a:solidFill>
                  <a:latin typeface="Times New Roman"/>
                </a:rPr>
                <a:t>media-alta</a:t>
              </a:r>
              <a:r>
                <a:rPr b="0" lang="es-ES_tradnl" sz="2000" spc="-1" strike="noStrike">
                  <a:solidFill>
                    <a:srgbClr val="578963"/>
                  </a:solidFill>
                  <a:latin typeface="Times New Roman"/>
                </a:rPr>
                <a:t>, el </a:t>
              </a:r>
              <a:r>
                <a:rPr b="1" lang="es-ES_tradnl" sz="2000" spc="-1" strike="noStrike">
                  <a:solidFill>
                    <a:srgbClr val="578963"/>
                  </a:solidFill>
                  <a:latin typeface="Times New Roman"/>
                </a:rPr>
                <a:t>mxscdx</a:t>
              </a:r>
              <a:r>
                <a:rPr b="0" lang="es-ES_tradnl" sz="2000" spc="-1" strike="noStrike">
                  <a:solidFill>
                    <a:srgbClr val="578963"/>
                  </a:solidFill>
                  <a:latin typeface="Times New Roman"/>
                </a:rPr>
                <a:t> sea de </a:t>
              </a:r>
              <a:r>
                <a:rPr b="0" i="1" lang="es-ES_tradnl" sz="2000" spc="-1" strike="noStrike">
                  <a:solidFill>
                    <a:srgbClr val="578963"/>
                  </a:solidFill>
                  <a:latin typeface="Times New Roman"/>
                </a:rPr>
                <a:t>bajo a medio</a:t>
              </a:r>
              <a:r>
                <a:rPr b="0" lang="es-ES_tradnl" sz="2000" spc="-1" strike="noStrike">
                  <a:solidFill>
                    <a:srgbClr val="578963"/>
                  </a:solidFill>
                  <a:latin typeface="Times New Roman"/>
                </a:rPr>
                <a:t> </a:t>
              </a:r>
              <a:r>
                <a:rPr b="0" lang="es-ES_tradnl" sz="2000" spc="-1" strike="noStrike" u="sng">
                  <a:solidFill>
                    <a:srgbClr val="578963"/>
                  </a:solidFill>
                  <a:uFillTx/>
                  <a:latin typeface="Times New Roman"/>
                </a:rPr>
                <a:t>O</a:t>
              </a:r>
              <a:r>
                <a:rPr b="0" lang="es-ES_tradnl" sz="2000" spc="-1" strike="noStrike">
                  <a:solidFill>
                    <a:srgbClr val="578963"/>
                  </a:solidFill>
                  <a:latin typeface="Times New Roman"/>
                </a:rPr>
                <a:t> </a:t>
              </a:r>
              <a:r>
                <a:rPr b="0" i="1" lang="es-ES_tradnl" sz="2000" spc="-1" strike="noStrike">
                  <a:solidFill>
                    <a:srgbClr val="578963"/>
                  </a:solidFill>
                  <a:latin typeface="Times New Roman"/>
                </a:rPr>
                <a:t>muy alto</a:t>
              </a:r>
              <a:r>
                <a:rPr b="0" lang="es-ES_tradnl" sz="2000" spc="-1" strike="noStrike">
                  <a:solidFill>
                    <a:srgbClr val="578963"/>
                  </a:solidFill>
                  <a:latin typeface="Times New Roman"/>
                </a:rPr>
                <a:t> y el </a:t>
              </a:r>
              <a:r>
                <a:rPr b="1" lang="es-ES_tradnl" sz="2000" spc="-1" strike="noStrike">
                  <a:solidFill>
                    <a:srgbClr val="578963"/>
                  </a:solidFill>
                  <a:latin typeface="Times New Roman"/>
                </a:rPr>
                <a:t>trnsdy</a:t>
              </a:r>
              <a:r>
                <a:rPr b="0" lang="es-ES_tradnl" sz="2000" spc="-1" strike="noStrike">
                  <a:solidFill>
                    <a:srgbClr val="578963"/>
                  </a:solidFill>
                  <a:latin typeface="Times New Roman"/>
                </a:rPr>
                <a:t> sea sea de </a:t>
              </a:r>
              <a:r>
                <a:rPr b="0" i="1" lang="es-ES_tradnl" sz="2000" spc="-1" strike="noStrike">
                  <a:solidFill>
                    <a:srgbClr val="578963"/>
                  </a:solidFill>
                  <a:latin typeface="Times New Roman"/>
                </a:rPr>
                <a:t>bajo a medio</a:t>
              </a:r>
              <a:r>
                <a:rPr b="0" lang="es-ES_tradnl" sz="2000" spc="-1" strike="noStrike">
                  <a:solidFill>
                    <a:srgbClr val="578963"/>
                  </a:solidFill>
                  <a:latin typeface="Times New Roman"/>
                </a:rPr>
                <a:t> </a:t>
              </a:r>
              <a:r>
                <a:rPr b="0" lang="es-ES_tradnl" sz="2000" spc="-1" strike="noStrike" u="sng">
                  <a:solidFill>
                    <a:srgbClr val="578963"/>
                  </a:solidFill>
                  <a:uFillTx/>
                  <a:latin typeface="Times New Roman"/>
                </a:rPr>
                <a:t>O</a:t>
              </a:r>
              <a:r>
                <a:rPr b="0" lang="es-ES_tradnl" sz="2000" spc="-1" strike="noStrike">
                  <a:solidFill>
                    <a:srgbClr val="578963"/>
                  </a:solidFill>
                  <a:latin typeface="Times New Roman"/>
                </a:rPr>
                <a:t> </a:t>
              </a:r>
              <a:r>
                <a:rPr b="0" i="1" lang="es-ES_tradnl" sz="2000" spc="-1" strike="noStrike">
                  <a:solidFill>
                    <a:srgbClr val="578963"/>
                  </a:solidFill>
                  <a:latin typeface="Times New Roman"/>
                </a:rPr>
                <a:t>muy alto</a:t>
              </a:r>
              <a:r>
                <a:rPr b="1" i="1" lang="es-ES_tradnl" sz="2000" spc="-1" strike="noStrike">
                  <a:solidFill>
                    <a:srgbClr val="578963"/>
                  </a:solidFill>
                  <a:latin typeface="Times New Roman"/>
                </a:rPr>
                <a:t>”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362" name="1regla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229600" cy="1608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106200" indent="-106200" algn="just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jetivo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06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230040" indent="-88560" algn="just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ecir las salidas que le corresponderían a una nueva serie de datos, sin tener que volver a simular todo el proyecto, y con unos márgenes de error bajo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230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230040" indent="-88560" algn="just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remos l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cnicas siguiente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230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354240" indent="-70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    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cnica de lo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-vecin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354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354240" indent="-70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    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resión Multivariant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637560" indent="-70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1-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Line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637560" indent="-70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2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No Line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230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4038480"/>
            <a:ext cx="8382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4c2b"/>
                </a:solidFill>
                <a:latin typeface="Times New Roman"/>
              </a:rPr>
              <a:t>Predicción de Salidas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593800" y="3962520"/>
                <a:ext cx="23972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-360" y="17521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lvl="1" marL="185760" indent="-71280" algn="just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K-Vecino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s dos puntos X e Y de la BD, donde éstos puntos tienen n-dimensione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, X2, ................., X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1, Y2, ................., Y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-71280" algn="just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stancia entre los dos puntos X e Y la podemos definir como: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-71280" algn="just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s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remos a partir de los coeficientes de correlación de cada parametro Pi respecto a cada salida Si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185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6094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buClr>
                <a:srgbClr val="333333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Técnica de los K-Vecin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4c2b"/>
                </a:solidFill>
                <a:latin typeface="Times New Roman"/>
              </a:rPr>
              <a:t>Predicción de Salidas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743200" y="5486400"/>
                <a:ext cx="2143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ς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-360" y="17521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lvl="1" marL="215280" indent="-82800" algn="just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écnica de los K-vecinos establece que cada salida estimada, para una nueva serie de datos, se calcula de la siguiente forma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21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21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21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2152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215280" indent="-82800" algn="just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comprobar el grado de bondad de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imac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rá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medidas de error diferente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21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21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21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21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2152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2152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2152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2152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00200" y="6094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buClr>
                <a:srgbClr val="333333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Técnica de los K-Vecin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4c2b"/>
                </a:solidFill>
                <a:latin typeface="Times New Roman"/>
              </a:rPr>
              <a:t>Predicción de Salidas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955960" y="2549520"/>
                <a:ext cx="3422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S</m:t>
                            </m:r>
                          </m:e>
                          <m:lim>
                            <m:r>
                              <m:t xml:space="preserve">λ</m:t>
                            </m:r>
                          </m:lim>
                        </m:limUpp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104840" y="4519440"/>
                <a:ext cx="21304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ι</m:t>
                                    </m:r>
                                  </m:sup>
                                </m:sSubSup>
                                <m:r>
                                  <m:t xml:space="preserve">|</m:t>
                                </m:r>
                                <m:r>
                                  <m:t xml:space="preserve">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965920" y="4330800"/>
                <a:ext cx="18730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ι</m:t>
                                    </m:r>
                                  </m:sup>
                                </m:sSubSup>
                                <m:r>
                                  <m:t xml:space="preserve">|</m:t>
                                </m:r>
                              </m:num>
                              <m:den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limUp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lim/>
                                    </m:limUpp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144440" y="5594400"/>
                <a:ext cx="17798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ι</m:t>
                                    </m:r>
                                  </m:sup>
                                </m:sSubSup>
                                <m:r>
                                  <m:t xml:space="preserve">|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6022800" y="5583240"/>
                <a:ext cx="17067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4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</m:e>
                        </m:nary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λ</m:t>
                            </m:r>
                          </m:sup>
                        </m:sSubSup>
                        <m:r>
                          <m:t xml:space="preserve">|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-113040" algn="just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RESION LINEAL MULTIVARIANTE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rata de predecir el valor de cada variable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ón lineal de una familia de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metros  (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 partir de una muestra de tamaño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yas ocurrencias se ordenan matricialmente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13040" indent="-113040" algn="just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ésima variable de salida y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,j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ésimo parámetro asociada a la observación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13040" indent="-113040" algn="just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objetivo 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justar los datos a un modelo de la form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11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6094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buClr>
                <a:srgbClr val="333333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Modelos de Regresion Line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4c2b"/>
                </a:solidFill>
                <a:latin typeface="Times New Roman"/>
              </a:rPr>
              <a:t>Predicción de Salidas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2819520" y="3048120"/>
            <a:ext cx="3078000" cy="11779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4059000" cy="3632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-88920" algn="just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GRESION NO LINEAL MULTIVARIANTE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88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88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rata de predecir el valor de cada variable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funció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 line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una familia de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metros  (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,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 partir de una muestra de tamaño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yas ocurrencias se ordenan matricialmente: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88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88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88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88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88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88920" indent="-88920" algn="just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ésima variable de salida y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,j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ésimo parámetro asociada a la observación </a:t>
            </a:r>
            <a:r>
              <a:rPr b="1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88920" indent="-88920" algn="just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trata de ajustar los datos a un modelo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linea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que puede tener por ejemplo las siguientes forma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88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415800" indent="-5940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a*Xi1^a1+ b*Xi2^b1+ ........ + z*Xim^z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3" marL="415800" indent="-59400" algn="just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xp(a*Xi1+ b*Xi2+ ........ + z*Xim)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88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88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88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88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88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00200" y="6094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buClr>
                <a:srgbClr val="333333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Modelos de Regresion No line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4c2b"/>
                </a:solidFill>
                <a:latin typeface="Times New Roman"/>
              </a:rPr>
              <a:t>Predicción de Salidas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2759040" y="2982960"/>
            <a:ext cx="3083040" cy="1179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78963"/>
                </a:solidFill>
                <a:latin typeface="Times New Roman"/>
              </a:rPr>
              <a:t>PROYECTO CICYT COORDINADO</a:t>
            </a:r>
            <a:r>
              <a:rPr b="1" lang="es-ES" sz="2800" spc="-1" strike="noStrike">
                <a:solidFill>
                  <a:srgbClr val="578963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GB" sz="4000" spc="-1" strike="noStrike">
                <a:solidFill>
                  <a:srgbClr val="578963"/>
                </a:solidFill>
                <a:latin typeface="Times New Roman"/>
              </a:rPr>
              <a:t>ARGOS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434340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33"/>
                </a:solidFill>
                <a:latin typeface="Times New Roman"/>
              </a:rPr>
              <a:t>Universidad de Sevilla            Universidad de Oviedo           Universidad del Pais Vasco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1956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Heracles2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1257480" cy="1269720"/>
          </a:xfrm>
          <a:prstGeom prst="rect">
            <a:avLst/>
          </a:prstGeom>
          <a:ln w="0">
            <a:noFill/>
          </a:ln>
        </p:spPr>
      </p:pic>
      <p:pic>
        <p:nvPicPr>
          <p:cNvPr id="97" name="idas" descr=""/>
          <p:cNvPicPr/>
          <p:nvPr/>
        </p:nvPicPr>
        <p:blipFill>
          <a:blip r:embed="rId2"/>
          <a:stretch/>
        </p:blipFill>
        <p:spPr>
          <a:xfrm>
            <a:off x="3657600" y="4343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Jason" descr=""/>
          <p:cNvPicPr/>
          <p:nvPr/>
        </p:nvPicPr>
        <p:blipFill>
          <a:blip r:embed="rId3"/>
          <a:stretch/>
        </p:blipFill>
        <p:spPr>
          <a:xfrm>
            <a:off x="6858000" y="4191120"/>
            <a:ext cx="1130400" cy="1447560"/>
          </a:xfrm>
          <a:prstGeom prst="rect">
            <a:avLst/>
          </a:prstGeom>
          <a:ln w="0">
            <a:noFill/>
          </a:ln>
        </p:spPr>
      </p:pic>
      <p:pic>
        <p:nvPicPr>
          <p:cNvPr id="99" name="argos2" descr=""/>
          <p:cNvPicPr/>
          <p:nvPr/>
        </p:nvPicPr>
        <p:blipFill>
          <a:blip r:embed="rId4"/>
          <a:stretch/>
        </p:blipFill>
        <p:spPr>
          <a:xfrm>
            <a:off x="3733920" y="1676520"/>
            <a:ext cx="1904760" cy="1530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0880" y="129528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78963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incipales puntos que podemos resolver son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2666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8963"/>
                </a:solidFill>
                <a:latin typeface="Times New Roman"/>
              </a:rPr>
              <a:t>Obtener información cualitativa sobre el comportamiento y evolución del proyect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8963"/>
                </a:solidFill>
                <a:latin typeface="Times New Roman"/>
              </a:rPr>
              <a:t>Conocer que tipo de valores (alto, medio, muy alto, etc.) deben tomar los parámetros de entrada para obtener los valores que se desean en las salidas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78963"/>
                </a:solidFill>
                <a:latin typeface="Times New Roman"/>
              </a:rPr>
              <a:t>Conocer que tipo de salidas (medio-alta, alta, etc) obtendremos para un nuevo conjunto de valores de entrada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 algn="just">
              <a:spcBef>
                <a:spcPts val="499"/>
              </a:spcBef>
              <a:buClr>
                <a:srgbClr val="578963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-36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4c2b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4c2b"/>
                </a:solidFill>
                <a:latin typeface="Times New Roman"/>
              </a:rPr>
              <a:t>Conclusiones 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CIAS POR LA ATENCIÓ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19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19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19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recciones de Contacto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19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19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4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isabel</a:t>
            </a:r>
            <a:r>
              <a:rPr b="0" lang="es-ES_tradnl" sz="24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.ramos@lsi.us.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19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0" lang="es-ES_tradnl" sz="24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aroba</a:t>
            </a:r>
            <a:r>
              <a:rPr b="0" lang="es-ES_tradnl" sz="24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@diesia.uhu.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19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riquelme@lsi.us.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19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19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19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19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121932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578963"/>
                </a:solidFill>
                <a:latin typeface="Times New Roman"/>
              </a:rPr>
              <a:t>Avances en la Toma de Decisiones en Proyectos </a:t>
            </a:r>
            <a:br>
              <a:rPr sz="2800"/>
            </a:br>
            <a:r>
              <a:rPr b="0" lang="es-ES_tradnl" sz="2800" spc="-1" strike="noStrike">
                <a:solidFill>
                  <a:srgbClr val="578963"/>
                </a:solidFill>
                <a:latin typeface="Times New Roman"/>
              </a:rPr>
              <a:t>de desarrollo de  Software</a:t>
            </a: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95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Avances en la toma de decisiones en proyectos softwa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lnSpc>
                <a:spcPct val="95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Experiencia del Expert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lnSpc>
                <a:spcPct val="95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Técnicas de Machine Learn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lnSpc>
                <a:spcPct val="95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Comparativa Experto vs KD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95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Reglas borrosas: Fuzzy Clustering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lnSpc>
                <a:spcPct val="95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Algoritmo FCM+:  Resultad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lnSpc>
                <a:spcPct val="95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Proyecciones multiples: Montícul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95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Predicción de Salidas en P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lnSpc>
                <a:spcPct val="95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Técnica de los K-Vecino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31440" indent="-242640">
              <a:lnSpc>
                <a:spcPct val="95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33"/>
                </a:solidFill>
                <a:latin typeface="Times New Roman"/>
              </a:rPr>
              <a:t>Modelos de Regresión Multivariante Lineal y No Line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91600" indent="-291600">
              <a:lnSpc>
                <a:spcPct val="95000"/>
              </a:lnSpc>
              <a:spcBef>
                <a:spcPts val="601"/>
              </a:spcBef>
              <a:buClr>
                <a:srgbClr val="57896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Times New Roman"/>
              </a:rPr>
              <a:t>Conclusion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447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8963"/>
                </a:solidFill>
                <a:latin typeface="Times New Roman"/>
              </a:rPr>
              <a:t>INDI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17524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simular el comportamiento de un PS mediante un SPS el responsable del proyecto debe seguir los siguientes paso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37160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880" y="3047760"/>
            <a:ext cx="8381880" cy="2791440"/>
            <a:chOff x="380880" y="3047760"/>
            <a:chExt cx="8381880" cy="2791440"/>
          </a:xfrm>
        </p:grpSpPr>
        <p:sp>
          <p:nvSpPr>
            <p:cNvPr id="108" name=""/>
            <p:cNvSpPr/>
            <p:nvPr/>
          </p:nvSpPr>
          <p:spPr>
            <a:xfrm>
              <a:off x="680040" y="3962520"/>
              <a:ext cx="1945440" cy="85968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finición concreta del valor de los parámetros 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8963"/>
                  </a:solidFill>
                  <a:latin typeface="Times New Roman"/>
                </a:rPr>
                <a:t>(Director)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75120" y="3962520"/>
              <a:ext cx="1945440" cy="85968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mulación del Modelo Dinámico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394a"/>
                  </a:solidFill>
                  <a:latin typeface="Times New Roman"/>
                </a:rPr>
                <a:t>(Simulador)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91360" y="3581280"/>
              <a:ext cx="1571400" cy="1219320"/>
            </a:xfrm>
            <a:prstGeom prst="flowChartDecision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5640" y="3809880"/>
              <a:ext cx="119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¿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ultados Deseados?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69840" y="3962520"/>
              <a:ext cx="1272240" cy="85968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álisis de Resultado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8963"/>
                  </a:solidFill>
                  <a:latin typeface="Times New Roman"/>
                </a:rPr>
                <a:t>(Director)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15640" y="5562720"/>
              <a:ext cx="1271880" cy="27648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25840" y="4267080"/>
              <a:ext cx="4489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0560" y="4267080"/>
              <a:ext cx="4489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42080" y="4191120"/>
              <a:ext cx="44892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14320" y="4800600"/>
              <a:ext cx="0" cy="76212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939440" y="3047760"/>
              <a:ext cx="0" cy="53316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55760" y="3048120"/>
              <a:ext cx="748368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90520" y="4876920"/>
              <a:ext cx="6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15640" y="3200400"/>
              <a:ext cx="6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4191120"/>
              <a:ext cx="29916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5760" y="3048120"/>
              <a:ext cx="0" cy="10666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28600" y="228600"/>
            <a:ext cx="83059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4c2b"/>
                </a:solidFill>
                <a:latin typeface="Times New Roman"/>
              </a:rPr>
              <a:t>Avances en la toma de decisiones en proyectos softwa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r">
              <a:spcBef>
                <a:spcPts val="601"/>
              </a:spcBef>
              <a:spcAft>
                <a:spcPts val="601"/>
              </a:spcAft>
              <a:buClr>
                <a:srgbClr val="004c2b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4c2b"/>
                </a:solidFill>
                <a:latin typeface="Times New Roman"/>
              </a:rPr>
              <a:t>Experiencia del Exper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4c2b"/>
                </a:solidFill>
                <a:latin typeface="Times New Roman"/>
              </a:rPr>
              <a:t>Avances en la toma de decisiones en proyectos software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simular el comportamiento de un proyecto con nuestra propuesta, los pasos son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8380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buClr>
                <a:srgbClr val="333333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Técnicas de Machine Learni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28600" y="3124080"/>
            <a:ext cx="8534520" cy="2588040"/>
            <a:chOff x="228600" y="3124080"/>
            <a:chExt cx="8534520" cy="2588040"/>
          </a:xfrm>
        </p:grpSpPr>
        <p:grpSp>
          <p:nvGrpSpPr>
            <p:cNvPr id="130" name=""/>
            <p:cNvGrpSpPr/>
            <p:nvPr/>
          </p:nvGrpSpPr>
          <p:grpSpPr>
            <a:xfrm>
              <a:off x="228600" y="3124080"/>
              <a:ext cx="8534520" cy="2588040"/>
              <a:chOff x="228600" y="3124080"/>
              <a:chExt cx="8534520" cy="2588040"/>
            </a:xfrm>
          </p:grpSpPr>
          <p:sp>
            <p:nvSpPr>
              <p:cNvPr id="131" name=""/>
              <p:cNvSpPr/>
              <p:nvPr/>
            </p:nvSpPr>
            <p:spPr>
              <a:xfrm>
                <a:off x="533520" y="3568680"/>
                <a:ext cx="1752480" cy="1213920"/>
              </a:xfrm>
              <a:prstGeom prst="rect">
                <a:avLst/>
              </a:prstGeom>
              <a:noFill/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spcBef>
                    <a:spcPts val="751"/>
                  </a:spcBef>
                  <a:spcAft>
                    <a:spcPts val="601"/>
                  </a:spcAft>
                  <a:buClr>
                    <a:srgbClr val="000000"/>
                  </a:buClr>
                  <a:buFont typeface="Times New Roman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Objetivos PDS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marL="457200" indent="-457200">
                  <a:spcBef>
                    <a:spcPts val="751"/>
                  </a:spcBef>
                  <a:spcAft>
                    <a:spcPts val="601"/>
                  </a:spcAft>
                  <a:buClr>
                    <a:srgbClr val="000000"/>
                  </a:buClr>
                  <a:buFont typeface="Times New Roman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Intervalos de los parámetros 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marL="457200" indent="-457200" algn="ctr">
                  <a:spcBef>
                    <a:spcPts val="876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578963"/>
                    </a:solidFill>
                    <a:latin typeface="Times New Roman"/>
                  </a:rPr>
                  <a:t>(Director)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71800" y="3568680"/>
                <a:ext cx="1981080" cy="1042200"/>
              </a:xfrm>
              <a:prstGeom prst="rect">
                <a:avLst/>
              </a:prstGeom>
              <a:noFill/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imulación del Modelo Dinámico y generación de BD histórica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394a"/>
                    </a:solidFill>
                    <a:latin typeface="Times New Roman"/>
                  </a:rPr>
                  <a:t>(Simulador)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391520" y="3390480"/>
                <a:ext cx="12189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glas de Gestió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410080" y="3568680"/>
                <a:ext cx="1600200" cy="859680"/>
              </a:xfrm>
              <a:prstGeom prst="rect">
                <a:avLst/>
              </a:prstGeom>
              <a:noFill/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Aplicación de técnicas de Machine Learning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a5394a"/>
                    </a:solidFill>
                    <a:latin typeface="Times New Roman"/>
                  </a:rPr>
                  <a:t>(C 4.5)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391520" y="5435640"/>
                <a:ext cx="1295280" cy="276480"/>
              </a:xfrm>
              <a:prstGeom prst="rect">
                <a:avLst/>
              </a:prstGeom>
              <a:noFill/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IN</a:t>
                </a:r>
                <a:endParaRPr b="0" lang="en-US" sz="1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86000" y="3924000"/>
                <a:ext cx="685800" cy="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952880" y="3924000"/>
                <a:ext cx="457200" cy="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010280" y="3835440"/>
                <a:ext cx="304920" cy="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001000" y="4635360"/>
                <a:ext cx="0" cy="79992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28600" y="3835440"/>
                <a:ext cx="304920" cy="0"/>
              </a:xfrm>
              <a:prstGeom prst="line">
                <a:avLst/>
              </a:prstGeom>
              <a:ln cap="sq" w="1260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15200" y="3124080"/>
                <a:ext cx="1447920" cy="1511280"/>
              </a:xfrm>
              <a:prstGeom prst="flowChartDocument">
                <a:avLst/>
              </a:prstGeom>
              <a:noFill/>
              <a:ln cap="sq"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600200" y="3213000"/>
              <a:ext cx="914400" cy="10666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533520" y="2895480"/>
            <a:ext cx="8076960" cy="3379320"/>
            <a:chOff x="533520" y="2895480"/>
            <a:chExt cx="8076960" cy="3379320"/>
          </a:xfrm>
        </p:grpSpPr>
        <p:sp>
          <p:nvSpPr>
            <p:cNvPr id="144" name=""/>
            <p:cNvSpPr/>
            <p:nvPr/>
          </p:nvSpPr>
          <p:spPr>
            <a:xfrm>
              <a:off x="533520" y="3276720"/>
              <a:ext cx="8076960" cy="2438280"/>
            </a:xfrm>
            <a:prstGeom prst="foldedCorner">
              <a:avLst>
                <a:gd name="adj" fmla="val 12500"/>
              </a:avLst>
            </a:prstGeom>
            <a:solidFill>
              <a:srgbClr val="b3e1b3"/>
            </a:solidFill>
            <a:ln w="12600">
              <a:solidFill>
                <a:srgbClr val="333333"/>
              </a:solidFill>
              <a:miter/>
            </a:ln>
            <a:effectLst>
              <a:outerShdw dist="107932" dir="2700000" blurRad="0" rotWithShape="0">
                <a:srgbClr val="57896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2895480"/>
              <a:ext cx="7696080" cy="33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G Times"/>
                </a:rPr>
                <a:t>                             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G Times"/>
                </a:rPr>
                <a:t> </a:t>
              </a:r>
              <a:r>
                <a:rPr b="0" lang="en-US" sz="1600" spc="-1" strike="noStrike">
                  <a:solidFill>
                    <a:srgbClr val="008000"/>
                  </a:solidFill>
                  <a:latin typeface="CG Times"/>
                </a:rPr>
                <a:t>	</a:t>
              </a:r>
              <a:r>
                <a:rPr b="1" i="1" lang="en-US" sz="2400" spc="-1" strike="noStrike">
                  <a:solidFill>
                    <a:srgbClr val="006600"/>
                  </a:solidFill>
                  <a:latin typeface="CG Times"/>
                </a:rPr>
                <a:t>“</a:t>
              </a:r>
              <a:r>
                <a:rPr b="1" i="1" lang="en-US" sz="2400" spc="-1" strike="noStrike">
                  <a:solidFill>
                    <a:srgbClr val="006600"/>
                  </a:solidFill>
                  <a:latin typeface="CG Times"/>
                </a:rPr>
                <a:t>La dedicación media de los técnicos es alta, el número de técnicos nuevos por cada técnico experto a tiempo completo es bajo y el porcentaje de técnicos estimados al inicio del proyecto es de medio a bajo” 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200" y="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6668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G Times"/>
              </a:rPr>
              <a:t>ADMPPS &gt; 0.74, MNHPXS &lt;= 1.46, 0.36 &lt;= INUST &lt;= 0.47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4440" y="1828800"/>
            <a:ext cx="82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G Times"/>
              </a:rPr>
              <a:t>Se podrán estimar resultados BUENOS para el tiempo si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2514600"/>
            <a:ext cx="76320" cy="533520"/>
          </a:xfrm>
          <a:custGeom>
            <a:avLst/>
            <a:gdLst>
              <a:gd name="textAreaLeft" fmla="*/ 22320 w 76320"/>
              <a:gd name="textAreaRight" fmla="*/ 76320 w 7632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91520" y="2514600"/>
            <a:ext cx="152280" cy="533520"/>
          </a:xfrm>
          <a:custGeom>
            <a:avLst/>
            <a:gdLst>
              <a:gd name="textAreaLeft" fmla="*/ 0 w 152280"/>
              <a:gd name="textAreaRight" fmla="*/ 106920 w 15228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37160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049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4c2b"/>
                </a:solidFill>
                <a:latin typeface="Times New Roman"/>
              </a:rPr>
              <a:t>Avances en la toma de decisiones en proyectos softwa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8380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buClr>
                <a:srgbClr val="333333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Ejemplo de Regla de gestión: C4.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-181800" algn="just">
              <a:spcBef>
                <a:spcPts val="601"/>
              </a:spcBef>
              <a:spcAft>
                <a:spcPts val="601"/>
              </a:spcAft>
              <a:buClr>
                <a:srgbClr val="578963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rativa de esquema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847800" indent="-12096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periencia del experto Vs Uso de técnicas de KD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29528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2743200"/>
            <a:ext cx="0" cy="3886200"/>
          </a:xfrm>
          <a:prstGeom prst="line">
            <a:avLst/>
          </a:prstGeom>
          <a:ln cap="sq"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648320" y="2819520"/>
            <a:ext cx="4241520" cy="3557880"/>
            <a:chOff x="4648320" y="2819520"/>
            <a:chExt cx="4241520" cy="3557880"/>
          </a:xfrm>
        </p:grpSpPr>
        <p:grpSp>
          <p:nvGrpSpPr>
            <p:cNvPr id="158" name=""/>
            <p:cNvGrpSpPr/>
            <p:nvPr/>
          </p:nvGrpSpPr>
          <p:grpSpPr>
            <a:xfrm>
              <a:off x="8002440" y="4648320"/>
              <a:ext cx="800280" cy="1015920"/>
              <a:chOff x="8002440" y="4648320"/>
              <a:chExt cx="800280" cy="1015920"/>
            </a:xfrm>
          </p:grpSpPr>
          <p:sp>
            <p:nvSpPr>
              <p:cNvPr id="159" name=""/>
              <p:cNvSpPr/>
              <p:nvPr/>
            </p:nvSpPr>
            <p:spPr>
              <a:xfrm>
                <a:off x="8002440" y="4648320"/>
                <a:ext cx="800280" cy="1015920"/>
              </a:xfrm>
              <a:custGeom>
                <a:avLst/>
                <a:gdLst/>
                <a:ahLst/>
                <a:rect l="l" t="t" r="r" b="b"/>
                <a:pathLst>
                  <a:path w="1006" h="640">
                    <a:moveTo>
                      <a:pt x="0" y="0"/>
                    </a:moveTo>
                    <a:lnTo>
                      <a:pt x="0" y="640"/>
                    </a:lnTo>
                    <a:lnTo>
                      <a:pt x="880" y="640"/>
                    </a:lnTo>
                    <a:lnTo>
                      <a:pt x="1006" y="560"/>
                    </a:lnTo>
                    <a:lnTo>
                      <a:pt x="1006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02640" y="5537160"/>
                <a:ext cx="100080" cy="127080"/>
              </a:xfrm>
              <a:custGeom>
                <a:avLst/>
                <a:gdLst/>
                <a:ahLst/>
                <a:rect l="l" t="t" r="r" b="b"/>
                <a:pathLst>
                  <a:path w="126" h="80">
                    <a:moveTo>
                      <a:pt x="0" y="80"/>
                    </a:moveTo>
                    <a:lnTo>
                      <a:pt x="32" y="3"/>
                    </a:lnTo>
                    <a:lnTo>
                      <a:pt x="39" y="7"/>
                    </a:lnTo>
                    <a:lnTo>
                      <a:pt x="46" y="10"/>
                    </a:lnTo>
                    <a:lnTo>
                      <a:pt x="56" y="11"/>
                    </a:lnTo>
                    <a:lnTo>
                      <a:pt x="67" y="11"/>
                    </a:lnTo>
                    <a:lnTo>
                      <a:pt x="79" y="10"/>
                    </a:lnTo>
                    <a:lnTo>
                      <a:pt x="94" y="8"/>
                    </a:lnTo>
                    <a:lnTo>
                      <a:pt x="109" y="4"/>
                    </a:lnTo>
                    <a:lnTo>
                      <a:pt x="126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6629400" y="3505320"/>
              <a:ext cx="1828800" cy="6793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86520" y="3541680"/>
              <a:ext cx="11826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66040" y="3632040"/>
              <a:ext cx="158724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81680" y="3733920"/>
              <a:ext cx="1524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Simulación del Modelo Dinámico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83120" y="4513320"/>
              <a:ext cx="557280" cy="208080"/>
            </a:xfrm>
            <a:prstGeom prst="ellipse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78440" y="4640400"/>
              <a:ext cx="1800" cy="6206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38960" y="4640400"/>
              <a:ext cx="1440" cy="6206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83120" y="5145120"/>
              <a:ext cx="557280" cy="250920"/>
            </a:xfrm>
            <a:prstGeom prst="ellipse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72320" y="4786200"/>
              <a:ext cx="3524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05520" y="4762440"/>
              <a:ext cx="40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06240" y="4768920"/>
              <a:ext cx="35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Times New Roman"/>
                </a:rPr>
                <a:t>B.H.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23000" y="4762440"/>
              <a:ext cx="882720" cy="9064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05440" y="5440320"/>
              <a:ext cx="636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05440" y="4875120"/>
              <a:ext cx="8002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34320" y="4876920"/>
              <a:ext cx="53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Técnicas de Machine  Learning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65720" y="5440320"/>
              <a:ext cx="1800" cy="112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32920" y="5419800"/>
              <a:ext cx="55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53560" y="4745160"/>
              <a:ext cx="74124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53280" y="4952880"/>
              <a:ext cx="527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Reglas de Gestión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43760" y="4197240"/>
              <a:ext cx="1440" cy="112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165360" y="4309920"/>
              <a:ext cx="878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6165720" y="5492880"/>
              <a:ext cx="559080" cy="122040"/>
              <a:chOff x="6165720" y="5492880"/>
              <a:chExt cx="559080" cy="122040"/>
            </a:xfrm>
          </p:grpSpPr>
          <p:sp>
            <p:nvSpPr>
              <p:cNvPr id="183" name=""/>
              <p:cNvSpPr/>
              <p:nvPr/>
            </p:nvSpPr>
            <p:spPr>
              <a:xfrm>
                <a:off x="6165720" y="5553000"/>
                <a:ext cx="47484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638760" y="5492880"/>
                <a:ext cx="86040" cy="122040"/>
              </a:xfrm>
              <a:custGeom>
                <a:avLst/>
                <a:gdLst/>
                <a:ahLst/>
                <a:rect l="l" t="t" r="r" b="b"/>
                <a:pathLst>
                  <a:path w="109" h="77">
                    <a:moveTo>
                      <a:pt x="0" y="77"/>
                    </a:moveTo>
                    <a:lnTo>
                      <a:pt x="109" y="38"/>
                    </a:lnTo>
                    <a:lnTo>
                      <a:pt x="0" y="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7620120" y="5105520"/>
              <a:ext cx="398160" cy="122040"/>
              <a:chOff x="7620120" y="5105520"/>
              <a:chExt cx="398160" cy="122040"/>
            </a:xfrm>
          </p:grpSpPr>
          <p:sp>
            <p:nvSpPr>
              <p:cNvPr id="186" name=""/>
              <p:cNvSpPr/>
              <p:nvPr/>
            </p:nvSpPr>
            <p:spPr>
              <a:xfrm>
                <a:off x="7620120" y="5165640"/>
                <a:ext cx="3157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932600" y="5105520"/>
                <a:ext cx="85680" cy="122040"/>
              </a:xfrm>
              <a:custGeom>
                <a:avLst/>
                <a:gdLst/>
                <a:ahLst/>
                <a:rect l="l" t="t" r="r" b="b"/>
                <a:pathLst>
                  <a:path w="109" h="77">
                    <a:moveTo>
                      <a:pt x="0" y="77"/>
                    </a:moveTo>
                    <a:lnTo>
                      <a:pt x="109" y="38"/>
                    </a:lnTo>
                    <a:lnTo>
                      <a:pt x="0" y="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121440" y="4309920"/>
              <a:ext cx="87120" cy="227160"/>
              <a:chOff x="6121440" y="4309920"/>
              <a:chExt cx="87120" cy="227160"/>
            </a:xfrm>
          </p:grpSpPr>
          <p:sp>
            <p:nvSpPr>
              <p:cNvPr id="189" name=""/>
              <p:cNvSpPr/>
              <p:nvPr/>
            </p:nvSpPr>
            <p:spPr>
              <a:xfrm>
                <a:off x="6165720" y="4309920"/>
                <a:ext cx="1800" cy="1080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121440" y="4414680"/>
                <a:ext cx="87120" cy="122400"/>
              </a:xfrm>
              <a:custGeom>
                <a:avLst/>
                <a:gdLst/>
                <a:ahLst/>
                <a:rect l="l" t="t" r="r" b="b"/>
                <a:pathLst>
                  <a:path w="109" h="77">
                    <a:moveTo>
                      <a:pt x="0" y="0"/>
                    </a:moveTo>
                    <a:lnTo>
                      <a:pt x="55" y="77"/>
                    </a:lnTo>
                    <a:lnTo>
                      <a:pt x="10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405480" y="3798720"/>
              <a:ext cx="239760" cy="122400"/>
              <a:chOff x="6405480" y="3798720"/>
              <a:chExt cx="239760" cy="122400"/>
            </a:xfrm>
          </p:grpSpPr>
          <p:sp>
            <p:nvSpPr>
              <p:cNvPr id="192" name=""/>
              <p:cNvSpPr/>
              <p:nvPr/>
            </p:nvSpPr>
            <p:spPr>
              <a:xfrm>
                <a:off x="6405480" y="3859200"/>
                <a:ext cx="15552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58120" y="3798720"/>
                <a:ext cx="87120" cy="122400"/>
              </a:xfrm>
              <a:custGeom>
                <a:avLst/>
                <a:gdLst/>
                <a:ahLst/>
                <a:rect l="l" t="t" r="r" b="b"/>
                <a:pathLst>
                  <a:path w="109" h="77">
                    <a:moveTo>
                      <a:pt x="0" y="77"/>
                    </a:moveTo>
                    <a:lnTo>
                      <a:pt x="109" y="38"/>
                    </a:lnTo>
                    <a:lnTo>
                      <a:pt x="0" y="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648320" y="3294000"/>
              <a:ext cx="1760400" cy="9050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183280" y="3429000"/>
              <a:ext cx="77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11840" y="5978520"/>
              <a:ext cx="358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KDD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48320" y="341316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Objetivos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marL="457200" indent="-457200" algn="just">
                <a:spcBef>
                  <a:spcPts val="601"/>
                </a:spcBef>
                <a:spcAft>
                  <a:spcPts val="601"/>
                </a:spcAft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Intervalos de los parámetros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29920" y="281952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578963"/>
                  </a:solidFill>
                  <a:latin typeface="Times New Roman"/>
                </a:rPr>
                <a:t>Directo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57200" y="2895480"/>
            <a:ext cx="3886200" cy="3675600"/>
            <a:chOff x="457200" y="2895480"/>
            <a:chExt cx="3886200" cy="3675600"/>
          </a:xfrm>
        </p:grpSpPr>
        <p:sp>
          <p:nvSpPr>
            <p:cNvPr id="200" name=""/>
            <p:cNvSpPr/>
            <p:nvPr/>
          </p:nvSpPr>
          <p:spPr>
            <a:xfrm>
              <a:off x="1933560" y="4089240"/>
              <a:ext cx="3110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10960" y="415620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65400" y="5070600"/>
              <a:ext cx="39060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42080" y="513540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68440" y="3502080"/>
              <a:ext cx="11494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85840" y="3967200"/>
              <a:ext cx="1082880" cy="1225440"/>
            </a:xfrm>
            <a:custGeom>
              <a:avLst/>
              <a:gdLst/>
              <a:ahLst/>
              <a:rect l="l" t="t" r="r" b="b"/>
              <a:pathLst>
                <a:path w="682" h="772">
                  <a:moveTo>
                    <a:pt x="341" y="0"/>
                  </a:moveTo>
                  <a:lnTo>
                    <a:pt x="0" y="386"/>
                  </a:lnTo>
                  <a:lnTo>
                    <a:pt x="341" y="772"/>
                  </a:lnTo>
                  <a:lnTo>
                    <a:pt x="682" y="386"/>
                  </a:lnTo>
                  <a:lnTo>
                    <a:pt x="341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7400" y="3200400"/>
              <a:ext cx="1341360" cy="61596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09680" y="3352680"/>
              <a:ext cx="93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Simulación del Modelo Dinámico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46440" y="5540400"/>
              <a:ext cx="539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29000" y="4213080"/>
              <a:ext cx="914400" cy="66384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05320" y="4419720"/>
              <a:ext cx="760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Análisis de los resultados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200" y="3200400"/>
              <a:ext cx="1138320" cy="5778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200" y="327672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Definición concreta del  valor de los parámetros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20920" y="4335480"/>
              <a:ext cx="6206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0" y="4419720"/>
              <a:ext cx="762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¿Resultados deseados?</a:t>
              </a:r>
              <a:endParaRPr b="0" lang="en-US" sz="1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585880" y="5192640"/>
              <a:ext cx="86040" cy="246240"/>
              <a:chOff x="2585880" y="5192640"/>
              <a:chExt cx="86040" cy="246240"/>
            </a:xfrm>
          </p:grpSpPr>
          <p:sp>
            <p:nvSpPr>
              <p:cNvPr id="216" name=""/>
              <p:cNvSpPr/>
              <p:nvPr/>
            </p:nvSpPr>
            <p:spPr>
              <a:xfrm>
                <a:off x="2630520" y="5192640"/>
                <a:ext cx="1440" cy="1238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585880" y="5307120"/>
                <a:ext cx="86040" cy="131760"/>
              </a:xfrm>
              <a:custGeom>
                <a:avLst/>
                <a:gdLst/>
                <a:ahLst/>
                <a:rect l="l" t="t" r="r" b="b"/>
                <a:pathLst>
                  <a:path w="54" h="83">
                    <a:moveTo>
                      <a:pt x="0" y="0"/>
                    </a:moveTo>
                    <a:lnTo>
                      <a:pt x="28" y="8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397240" y="5438880"/>
              <a:ext cx="468360" cy="371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14600" y="5562720"/>
              <a:ext cx="168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171960" y="4495680"/>
              <a:ext cx="256680" cy="152280"/>
              <a:chOff x="3171960" y="4495680"/>
              <a:chExt cx="256680" cy="152280"/>
            </a:xfrm>
          </p:grpSpPr>
          <p:sp>
            <p:nvSpPr>
              <p:cNvPr id="221" name=""/>
              <p:cNvSpPr/>
              <p:nvPr/>
            </p:nvSpPr>
            <p:spPr>
              <a:xfrm flipH="1">
                <a:off x="3258000" y="4574520"/>
                <a:ext cx="17064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71960" y="4495680"/>
                <a:ext cx="91440" cy="152280"/>
              </a:xfrm>
              <a:custGeom>
                <a:avLst/>
                <a:gdLst/>
                <a:ahLst/>
                <a:rect l="l" t="t" r="r" b="b"/>
                <a:pathLst>
                  <a:path w="52" h="85">
                    <a:moveTo>
                      <a:pt x="52" y="0"/>
                    </a:moveTo>
                    <a:lnTo>
                      <a:pt x="0" y="44"/>
                    </a:lnTo>
                    <a:lnTo>
                      <a:pt x="52" y="85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57200" y="6172200"/>
              <a:ext cx="358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xperto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6" idx="3"/>
              <a:endCxn id="209" idx="0"/>
            </p:cNvCxnSpPr>
            <p:nvPr/>
          </p:nvCxnSpPr>
          <p:spPr>
            <a:xfrm>
              <a:off x="3398760" y="3508200"/>
              <a:ext cx="488160" cy="705240"/>
            </a:xfrm>
            <a:prstGeom prst="bentConnector2">
              <a:avLst/>
            </a:prstGeom>
            <a:ln cap="sq" w="12600">
              <a:solidFill>
                <a:srgbClr val="333333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05" idx="0"/>
              <a:endCxn id="211" idx="2"/>
            </p:cNvCxnSpPr>
            <p:nvPr/>
          </p:nvCxnSpPr>
          <p:spPr>
            <a:xfrm rot="10800000">
              <a:off x="1026360" y="3777480"/>
              <a:ext cx="1059480" cy="802440"/>
            </a:xfrm>
            <a:prstGeom prst="bentConnector2">
              <a:avLst/>
            </a:prstGeom>
            <a:ln cap="sq" w="1260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26" name=""/>
            <p:cNvSpPr/>
            <p:nvPr/>
          </p:nvSpPr>
          <p:spPr>
            <a:xfrm>
              <a:off x="534240" y="289548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578963"/>
                  </a:solidFill>
                  <a:latin typeface="Times New Roman"/>
                </a:rPr>
                <a:t>Directo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20240" y="3886200"/>
              <a:ext cx="82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578963"/>
                  </a:solidFill>
                  <a:latin typeface="Times New Roman"/>
                </a:rPr>
                <a:t>Directo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00200" y="3505320"/>
              <a:ext cx="457200" cy="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4c2b"/>
                </a:solidFill>
                <a:latin typeface="Times New Roman"/>
              </a:rPr>
              <a:t>Avances en la toma de decisiones en proyectos software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762120"/>
            <a:ext cx="7924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buClr>
                <a:srgbClr val="333333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4c2b"/>
                </a:solidFill>
                <a:latin typeface="Times New Roman"/>
              </a:rPr>
              <a:t>Comparativa Experto / KD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simular el comportamiento de un proyecto con nuestra nueva propuesta, los pasos son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60020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04920" y="3352680"/>
            <a:ext cx="8534160" cy="2257920"/>
            <a:chOff x="304920" y="3352680"/>
            <a:chExt cx="8534160" cy="2257920"/>
          </a:xfrm>
        </p:grpSpPr>
        <p:sp>
          <p:nvSpPr>
            <p:cNvPr id="234" name=""/>
            <p:cNvSpPr/>
            <p:nvPr/>
          </p:nvSpPr>
          <p:spPr>
            <a:xfrm>
              <a:off x="609480" y="3733920"/>
              <a:ext cx="1752840" cy="132156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876"/>
                </a:spcBef>
                <a:spcAft>
                  <a:spcPts val="601"/>
                </a:spcAft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bjetivos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marL="457200" indent="-457200">
                <a:spcBef>
                  <a:spcPts val="876"/>
                </a:spcBef>
                <a:spcAft>
                  <a:spcPts val="601"/>
                </a:spcAft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tervalos de los parámetros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marL="457200" indent="-457200" algn="ctr">
                <a:spcBef>
                  <a:spcPts val="876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78963"/>
                  </a:solidFill>
                  <a:latin typeface="Times New Roman"/>
                </a:rPr>
                <a:t>(Director)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48120" y="3733920"/>
              <a:ext cx="1981080" cy="113400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imulación del Modelo Dinámico y generación de BD históric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394a"/>
                  </a:solidFill>
                  <a:latin typeface="Times New Roman"/>
                </a:rPr>
                <a:t>(Simulador)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7480" y="358128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glas de Gestión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86400" y="3733920"/>
              <a:ext cx="1600200" cy="134712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Aplicación de técnicas de Lógica borros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a5394a"/>
                  </a:solidFill>
                  <a:latin typeface="Times New Roman"/>
                </a:rPr>
                <a:t>(Algoritmo de Fuzzy clustering)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67480" y="5334120"/>
              <a:ext cx="1295640" cy="276480"/>
            </a:xfrm>
            <a:prstGeom prst="rec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62320" y="4038480"/>
              <a:ext cx="685800" cy="1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29200" y="4038480"/>
              <a:ext cx="457200" cy="1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86600" y="3962520"/>
              <a:ext cx="304920" cy="14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77320" y="4648320"/>
              <a:ext cx="1440" cy="68580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4920" y="3962520"/>
              <a:ext cx="304560" cy="144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91520" y="3352680"/>
              <a:ext cx="1447560" cy="1295640"/>
            </a:xfrm>
            <a:prstGeom prst="flowChartDocument">
              <a:avLst/>
            </a:prstGeom>
            <a:noFill/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3733920"/>
              <a:ext cx="457200" cy="3045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066680" y="3733920"/>
              <a:ext cx="838440" cy="380880"/>
            </a:xfrm>
            <a:prstGeom prst="line">
              <a:avLst/>
            </a:prstGeom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4c2b"/>
                </a:solidFill>
                <a:latin typeface="Times New Roman"/>
              </a:rPr>
              <a:t>Reglas borrosas: Fuzzy Clustering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4920" y="1828800"/>
            <a:ext cx="8458200" cy="4648320"/>
          </a:xfrm>
          <a:prstGeom prst="rect">
            <a:avLst/>
          </a:prstGeom>
          <a:solidFill>
            <a:srgbClr val="a9bda9"/>
          </a:solidFill>
          <a:ln w="0">
            <a:noFill/>
          </a:ln>
          <a:effectLst>
            <a:outerShdw dist="107932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4c2b"/>
                </a:solidFill>
                <a:latin typeface="Times New Roman"/>
              </a:rPr>
              <a:t>Reglas borrosas: Fuzzy Clustering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cap="sq"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578963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33"/>
                </a:solidFill>
                <a:uFillTx/>
                <a:latin typeface="Times New Roman"/>
              </a:rPr>
              <a:t>Adquisición de Conocimient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57200" y="2438280"/>
            <a:ext cx="8381880" cy="3962520"/>
            <a:chOff x="457200" y="2438280"/>
            <a:chExt cx="8381880" cy="3962520"/>
          </a:xfrm>
        </p:grpSpPr>
        <p:sp>
          <p:nvSpPr>
            <p:cNvPr id="253" name=""/>
            <p:cNvSpPr/>
            <p:nvPr/>
          </p:nvSpPr>
          <p:spPr>
            <a:xfrm>
              <a:off x="4343400" y="5410080"/>
              <a:ext cx="1752480" cy="703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ulación del PD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3520" y="4724280"/>
              <a:ext cx="1904760" cy="1676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2120" y="4800600"/>
              <a:ext cx="1600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e de Datos cuantitativa Original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" y="2438280"/>
              <a:ext cx="1905120" cy="1219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5800" y="2514600"/>
              <a:ext cx="1447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e de Datos Filtrad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5280" y="3733920"/>
              <a:ext cx="304920" cy="838080"/>
            </a:xfrm>
            <a:prstGeom prst="upArrow">
              <a:avLst>
                <a:gd name="adj1" fmla="val 50000"/>
                <a:gd name="adj2" fmla="val 68713"/>
              </a:avLst>
            </a:prstGeom>
            <a:solidFill>
              <a:srgbClr val="ffffff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5715000"/>
              <a:ext cx="1600200" cy="304920"/>
            </a:xfrm>
            <a:prstGeom prst="leftArrow">
              <a:avLst>
                <a:gd name="adj1" fmla="val 50000"/>
                <a:gd name="adj2" fmla="val 131198"/>
              </a:avLst>
            </a:prstGeom>
            <a:solidFill>
              <a:srgbClr val="ffffff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14600"/>
              <a:ext cx="2133720" cy="1008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trones y Modelos de comportamiento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90920" y="2971800"/>
              <a:ext cx="1295280" cy="304920"/>
            </a:xfrm>
            <a:prstGeom prst="rightArrow">
              <a:avLst>
                <a:gd name="adj1" fmla="val 50000"/>
                <a:gd name="adj2" fmla="val 106198"/>
              </a:avLst>
            </a:prstGeom>
            <a:solidFill>
              <a:srgbClr val="ffffff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53080" y="4191120"/>
              <a:ext cx="1981440" cy="703800"/>
            </a:xfrm>
            <a:prstGeom prst="rect">
              <a:avLst/>
            </a:prstGeom>
            <a:solidFill>
              <a:srgbClr val="ffffff"/>
            </a:solidFill>
            <a:ln cap="sq"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ocimiento Cualitativo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86400" y="3124080"/>
              <a:ext cx="2666880" cy="129564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612929"/>
                  <a:lnTo>
                    <a:pt x="10131" y="21"/>
                  </a:lnTo>
                  <a:arcTo wR="10800" hR="10800" stAng="-5612929" swAng="5612929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23880" y="396252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dició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38280" y="24382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Data Min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858000" y="2438280"/>
              <a:ext cx="198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valuación y Visualizació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66880" y="52578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SP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3:05:33Z</dcterms:created>
  <dc:creator>Javier Aroba Páez, Isabel Ramos, José C. Riquelme </dc:creator>
  <dc:description/>
  <dc:language>en-US</dc:language>
  <cp:lastModifiedBy>Javier Aroba</cp:lastModifiedBy>
  <cp:lastPrinted>2000-04-13T17:15:06Z</cp:lastPrinted>
  <dcterms:modified xsi:type="dcterms:W3CDTF">2002-07-02T13:18:19Z</dcterms:modified>
  <cp:revision>199</cp:revision>
  <dc:subject/>
  <dc:title>Mejora en la toma de decisiones..............</dc:title>
</cp:coreProperties>
</file>