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3ED-2E5A-4EC0-9D75-CAF26A93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DD9-4C08-47BF-8569-D9950D13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AE3-B84A-4F22-B016-DEB4EDDD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72F-A028-4041-8B56-F016E650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884-52C7-4258-A8CD-5A000C58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2055-5093-4AEE-9C0B-DE06218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C98-D0FA-42A3-A097-B69D377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D353-7FFA-4781-A090-62BC706D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811-4672-483E-9CA0-0055033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AEB-9637-4DFD-A9A6-12ECBC5F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091E-8D17-45A1-B49E-E14C89C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A3E-C7E5-4CA2-824C-6974B7A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4B32-D4A9-475F-A10B-EC7352E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8C8-EDE7-4D0B-848F-971ABF6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B0D9-350C-45C4-99F2-972CBCA7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681A-24F6-4055-9DEC-F10BA9C5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9BA8-289A-4492-973B-44ABF3DF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9DF-CC4E-469F-BC96-FA33DA18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D29-0B70-4D17-8DCC-1B387EA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A6A-2AC4-4BE5-BBFA-398078C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9FC-0B09-44DF-8DAF-E726675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ACA-46B0-42E6-B229-0F7B68E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BBC-1D47-4BDC-ADDA-DC3310E1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DDA-227B-495E-82AD-7622FBF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899C-70D3-4A06-B443-2EB27879182A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001-D81C-432C-85FC-11D4BDA1D2DD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argo2b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nducción de reglas semicualitativas mediante un algoritmo evolutiv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escudouhu" descr=""/>
          <p:cNvPicPr/>
          <p:nvPr/>
        </p:nvPicPr>
        <p:blipFill>
          <a:blip r:embed="rId2"/>
          <a:stretch/>
        </p:blipFill>
        <p:spPr>
          <a:xfrm>
            <a:off x="0" y="5486400"/>
            <a:ext cx="11714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8001000" y="5562720"/>
          <a:ext cx="114300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5562720"/>
                    <a:ext cx="1143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781680" y="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yecto ARG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Jas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r>
              <a:rPr b="1" lang="es-ES_tradnl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imes New Roman"/>
              </a:rPr>
              <a:t>Herac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íneas de investig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ELIPSES: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Inducción de reglas semicualit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licación prác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LIPSES (I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oritmo Evolu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dividuos representan elipses o hiperelip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6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562720" cy="193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00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14600" y="5486400"/>
                <a:ext cx="3886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···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LIPSES (II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pre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86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00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362320" y="2743200"/>
                <a:ext cx="3886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···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143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33720" y="4191120"/>
                <a:ext cx="42670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Y···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47680" y="3581280"/>
            <a:ext cx="88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antitati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80" y="4724280"/>
            <a:ext cx="88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micualitati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527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5257800"/>
                <a:ext cx="5105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et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et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Y···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et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47680" y="5715000"/>
            <a:ext cx="88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Donde </a:t>
            </a: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etq</a:t>
            </a:r>
            <a:r>
              <a:rPr b="0" i="1" lang="es-ES_tradnl" sz="20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es una etiqueta deducida a partir de la ‘amplitud’ con respecto al total del interval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LIPSES (y III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pretación gráf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6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00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43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527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431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7335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0880" y="838080"/>
            <a:ext cx="3581640" cy="2527560"/>
            <a:chOff x="380880" y="838080"/>
            <a:chExt cx="3581640" cy="2527560"/>
          </a:xfrm>
        </p:grpSpPr>
        <p:graphicFrame>
          <p:nvGraphicFramePr>
            <p:cNvPr id="173" name=""/>
            <p:cNvGraphicFramePr/>
            <p:nvPr/>
          </p:nvGraphicFramePr>
          <p:xfrm>
            <a:off x="380880" y="838080"/>
            <a:ext cx="3581640" cy="2527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838080"/>
                      <a:ext cx="3581640" cy="252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3585240" y="28954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7120" y="91440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486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43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527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1981080"/>
            <a:ext cx="1218960" cy="114300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676520"/>
            <a:ext cx="990360" cy="114300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447920"/>
            <a:ext cx="1066680" cy="99036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1905120"/>
            <a:ext cx="1066680" cy="990000"/>
            <a:chOff x="838080" y="1905120"/>
            <a:chExt cx="1066680" cy="990000"/>
          </a:xfrm>
        </p:grpSpPr>
        <p:sp>
          <p:nvSpPr>
            <p:cNvPr id="184" name=""/>
            <p:cNvSpPr/>
            <p:nvPr/>
          </p:nvSpPr>
          <p:spPr>
            <a:xfrm>
              <a:off x="1822680" y="1905120"/>
              <a:ext cx="82080" cy="824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4760" y="1987560"/>
              <a:ext cx="0" cy="90756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905120"/>
              <a:ext cx="9846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371600" y="1905120"/>
            <a:ext cx="1066680" cy="914400"/>
            <a:chOff x="1371600" y="1905120"/>
            <a:chExt cx="1066680" cy="914400"/>
          </a:xfrm>
        </p:grpSpPr>
        <p:sp>
          <p:nvSpPr>
            <p:cNvPr id="188" name=""/>
            <p:cNvSpPr/>
            <p:nvPr/>
          </p:nvSpPr>
          <p:spPr>
            <a:xfrm>
              <a:off x="1371600" y="1905120"/>
              <a:ext cx="0" cy="9144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1905120"/>
              <a:ext cx="0" cy="9144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71600" y="2819520"/>
              <a:ext cx="1066680" cy="0"/>
            </a:xfrm>
            <a:prstGeom prst="line">
              <a:avLst/>
            </a:prstGeom>
            <a:ln cap="sq" w="63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14400" y="1447920"/>
            <a:ext cx="1066680" cy="990360"/>
            <a:chOff x="914400" y="1447920"/>
            <a:chExt cx="1066680" cy="990360"/>
          </a:xfrm>
        </p:grpSpPr>
        <p:sp>
          <p:nvSpPr>
            <p:cNvPr id="192" name=""/>
            <p:cNvSpPr/>
            <p:nvPr/>
          </p:nvSpPr>
          <p:spPr>
            <a:xfrm>
              <a:off x="914400" y="1447920"/>
              <a:ext cx="0" cy="990360"/>
            </a:xfrm>
            <a:prstGeom prst="line">
              <a:avLst/>
            </a:prstGeom>
            <a:ln cap="sq" w="63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4400" y="1447920"/>
              <a:ext cx="1066680" cy="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4400" y="2438280"/>
              <a:ext cx="1066680" cy="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419720" y="1066680"/>
            <a:ext cx="4038480" cy="707760"/>
            <a:chOff x="4419720" y="1066680"/>
            <a:chExt cx="4038480" cy="707760"/>
          </a:xfrm>
        </p:grpSpPr>
        <p:sp>
          <p:nvSpPr>
            <p:cNvPr id="196" name=""/>
            <p:cNvSpPr/>
            <p:nvPr/>
          </p:nvSpPr>
          <p:spPr>
            <a:xfrm>
              <a:off x="4419720" y="1066680"/>
              <a:ext cx="403848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5410080" y="1142640"/>
                  <a:ext cx="198072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" name=""/>
          <p:cNvSpPr/>
          <p:nvPr/>
        </p:nvSpPr>
        <p:spPr>
          <a:xfrm>
            <a:off x="4419720" y="2286000"/>
            <a:ext cx="4114800" cy="8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oma valor próximo a 4 con margen 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toma valor próximo a 6 con margen 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581280"/>
            <a:ext cx="8001000" cy="8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oma valor próximo a 4 con amplitud MED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toma valor próximo a 6 con amplitud MEDIOGRAN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9880" y="4724280"/>
          <a:ext cx="152424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724280"/>
                    <a:ext cx="15242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íneas de investig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ELIPSES: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Inducción de reglas semicualit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plicación prác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licación: Descrip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 campo de la Ingeniería del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bjetivo: Mejorar en coste, esfuerzo y calidad el proceso de desarrollo de software encontrando los intervalos adecuados para los parámetros que influyen en este proce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roblema: Falta de datos re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olución: Simulación del proceso mediante modelos dinám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ases Datos: Parámetros entrada elegidos y salidas obteni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cuación de las sali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ablecer intervalos (cortes) sobre las sali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licación: Base de Dat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981080"/>
            <a:ext cx="80010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cc"/>
                </a:solidFill>
                <a:uFillTx/>
                <a:latin typeface="Times New Roman"/>
              </a:rPr>
              <a:t>Entr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DMPP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Dedicación media de los técnicos al proyecto  [0.5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SIM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Retraso medio en la adaptación de técnicos al proyecto [10.5,120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DEVPR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Porcentaje de esfuerzo asignado a desarrollo [0.5,0.95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HIRE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Retraso medio en la contratación de nuevos técnicos [5.0,39.7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UD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Porcentaje de técnicos estimados al inicio del proyecto [0.2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NHPXS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Técnicos nuevos por técnico experto a tiempo completo [1.0,5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RPNHR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Porcentaje de dedicación de técnicos expertos a formación [0.05,0.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M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Infraestimación inicial del esfuerzo estimado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Infraestimación inicial de tamaño en líneas de código fuente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cc"/>
                </a:solidFill>
                <a:uFillTx/>
                <a:latin typeface="Times New Roman"/>
              </a:rPr>
              <a:t>Sali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JBSZMD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(técnico/días) Esfuerzo para llevar a cabo el proyecto [1111,7929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CHCD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(días) Tiempo de desarrollo  [349.5,863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NERP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(calidad) Número de errores medio por tarea  [0.22,0.7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licación: Cor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924200"/>
            <a:ext cx="259092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cc"/>
                </a:solidFill>
                <a:uFillTx/>
                <a:latin typeface="Times New Roman"/>
              </a:rPr>
              <a:t>Entr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DMPP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5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SIM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10.5,120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DEVPR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5,0.95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HIRE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5.0,39.7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UD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[0.2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NHPXS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1.0,5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RPNHR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[0.05,0.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M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cc"/>
                </a:solidFill>
                <a:uFillTx/>
                <a:latin typeface="Times New Roman"/>
              </a:rPr>
              <a:t>Sali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JBSZMD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 [1111,7929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CHCD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349.5,863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NERP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22,0.7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2895480"/>
            <a:ext cx="556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Corte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I: Esfuerzo, Tiempo y Calidad (48 Caso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JBSZMD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2092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,  SCHCDT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387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y  ANERPT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0.4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Corte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II: Esfuerzo y Tiempo (221 Caso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JBSZMD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2092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y 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CHCDT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38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licación: Resultados (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rte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905120"/>
            <a:ext cx="259092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cc"/>
                </a:solidFill>
                <a:uFillTx/>
                <a:latin typeface="Times New Roman"/>
              </a:rPr>
              <a:t>Entr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a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DMPP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5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b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SIM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10.5,12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DEVPR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5,0.95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HIRE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5.0,39.7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UD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[0.2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f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NHPXS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1.0,5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g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RPNHR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[0.05,0.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h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M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i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cc"/>
                </a:solidFill>
                <a:uFillTx/>
                <a:latin typeface="Times New Roman"/>
              </a:rPr>
              <a:t>Sali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JBSZMD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 [1111,7929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CHCD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349.5,863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NERP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22,0.7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06760" y="2895480"/>
            <a:ext cx="6537240" cy="341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97160" y="1905120"/>
            <a:ext cx="55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las para Esfuerzo, Tiempo y Cal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JBSZMD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2092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y  SCHCDT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387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y  ANERPT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0.4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íneas de investig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ELIPSES: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Inducción de reglas semicualit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licación prác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licación: Resultados (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rte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24200"/>
            <a:ext cx="25909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cc"/>
                </a:solidFill>
                <a:uFillTx/>
                <a:latin typeface="Times New Roman"/>
              </a:rPr>
              <a:t>Entr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a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DMPP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5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b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SIM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10.5,12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DEVPR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5,0.95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HIREDY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5.0,39.7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UD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[0.2,1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f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NHPXS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1.0,5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g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RPNHR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[0.05,0.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h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M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05,0.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i)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UNDES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05,0.6]</a:t>
            </a:r>
            <a:r>
              <a:rPr b="1" lang="es-ES" sz="1800" spc="-1" strike="noStrike" u="sng">
                <a:solidFill>
                  <a:srgbClr val="ffffcc"/>
                </a:solidFill>
                <a:uFillTx/>
                <a:latin typeface="Times New Roman"/>
              </a:rPr>
              <a:t> Sali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JBSZMD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 [1111,7929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CHCD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349.5,863.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ANERPT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[0.22,0.76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1080" y="1981080"/>
            <a:ext cx="373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las para Esfuerzo y Tiem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JBSZMD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2092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y 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CHCDT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&lt;=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38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65376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7680" y="21333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IPSES: AE + Superficies Cónic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s un clasific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duce modelo de reglas semicualitativ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licación: Proceso de desarrollo de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Utiliza un número relativamente bajo de parámetr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Ofrece buenos resultados par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conveni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Dificultad de interpretación de result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gram02r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7631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niargo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íneas de investig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ELIPSES: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Inducción de reglas semicualit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licación prác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Líneas de Investiga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KDD – (Knowledge Discovery in Dat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tracción de conocimiento en Bases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inería de Datos (o Data Min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rendizaje Supervisado (Sistemas de clasificació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oritmos Evolutiv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íneas de investig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ELIPSES: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Inducción de reglas semicualit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licación prác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otiva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de herramientas como C4.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ucir el número de reglas y/o porcentaje de error mediante modelos de clasificación no ortog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entar el conocimiento en un lenguaje cercano al exper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íneas de investig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port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ELIPSES: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Inducción de reglas semicualit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licación prác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bjetivo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GO 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asificador Genético Oblicuo, basado en un AE y el C4.5, utilizando hiperplanos oblicuos a los ej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BLI 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asificador OBLIcuo, no jerárquico, utilizando hiperplano oblicuos a los ej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GC 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asificador Genético Cónico, basado en un AE y el C4.5, utilizando superficies cóni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bjetivo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IPSES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Herramienta para inducir un modelo de reglas semicualitativo y su visualización gráfic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portacio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bjetivo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GO 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asificador Genético Oblicuo, basado en un AE y el C4.5, utilizando hiperplanos oblicuos a los ej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BLI 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asificador OBLIcuo, no jerárquico, utilizando hiperplano oblicuos a los ej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GC 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asificador Genético Cónico, basado en un AE y el C4.5, utilizando superficies cóni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bjetivo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LIPS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Herramienta para inducir un modelo de reglas semicualitativo y su visualización gráfic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9:19:30Z</dcterms:created>
  <dc:creator>Jlam</dc:creator>
  <dc:description/>
  <dc:language>en-US</dc:language>
  <cp:lastModifiedBy>Jose Manuel Andujar</cp:lastModifiedBy>
  <dcterms:modified xsi:type="dcterms:W3CDTF">2002-07-03T09:42:04Z</dcterms:modified>
  <cp:revision>13</cp:revision>
  <dc:subject/>
  <dc:title>Inducción de reglas semicualitativas mediante un algoritmo evolutivo</dc:title>
</cp:coreProperties>
</file>