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082-D8C8-4EF4-8EF5-14067E6D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763640" y="4560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B49-A8F6-4915-B0C4-027E66C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360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514-43D9-45D6-97D9-FBB9AFA1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2760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192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76364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2760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192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6B2-E932-4168-9C15-777659B2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9AE5-2558-44FA-BF53-C5EE499C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63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997-A249-411F-BE66-E4D7EE16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049B-B218-4B1D-8557-4C25BF33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8A1-B886-4376-AD51-74903D2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E3A-BA6B-4387-97A7-7C85FD5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269E-A0BB-45C0-8C15-766F11C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9A0-7B5C-4A47-BAE7-C646872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763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252-43E3-4D94-A98E-429124B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4360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885A-4991-4C54-97A5-57F0A8B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257-2304-43CA-B1EC-A691DBF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63640" y="4560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49D-26AD-4E62-94BF-A8BC455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360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0799-CD32-40D9-B08D-D4FCE2F4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2760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920" y="3645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6364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92760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1920" y="4560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06D8-66CD-4EE0-807D-71EAA084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19B-F3B3-4A36-B5D0-73E12FA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BB9-E10D-498E-AED3-B83AFB0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618-0EE2-40E2-9432-9C02E29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8D8-7177-4EF4-B162-352F976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4B2-63AE-43EB-B7B3-161737A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3600" y="4560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E48-42C2-44C8-A8D6-0CBFF55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64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3600" y="3645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763640" y="4560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127-93F1-432C-9FDA-559AB0C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2780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29CA-C25C-4C71-B1F0-BD77062BBBEF}" type="slidenum">
              <a:rPr b="1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E242-F655-4B93-857D-C689BDF99A1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OPROMAF: Soporte a la decisión para la mejora del proceso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148000" y="3716280"/>
            <a:ext cx="308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ikatza J.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rburu I.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obrado F.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García J.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00000" y="3592440"/>
            <a:ext cx="33116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540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utilización Conocimiento (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851280" cy="2035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360360" y="1533600"/>
            <a:ext cx="7740720" cy="51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9C7-2049-41EB-A62D-DADB8EC917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482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utilización Conocimiento (I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-973080" y="1932120"/>
            <a:ext cx="10836360" cy="45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B12-F686-4474-9854-08A0F55C16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SS: almacenamiento e interpretación de datos de proyectos y ayuda a la deci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Ontologías: elementos la reutiliz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ocimiento para  estructura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el frame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oporte a la interpretación y deci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ción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fram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y RDF(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Metodología: posibilidad de sistematiz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ectividad y claridad de desarrol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erramientas utilizadas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yuda funda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9A4-E3B1-4781-82FE-84A702B23F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OPROMAF: Soporte a la decisión para la mejora del proceso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763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ikatza J.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rburu I.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obrado F.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García J.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La mejora de procesos funciona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4360" y="1413000"/>
            <a:ext cx="8820360" cy="5167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58080" y="2224080"/>
            <a:ext cx="3085920" cy="62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143840" y="2852640"/>
            <a:ext cx="200016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94E-C0FA-43A9-A26F-52068E9AF9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 necesario sistematiz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1575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Reutilización sistemátic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o basado en el domin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Soporte al PDS vía Web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onitorización del procesos (We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yuda a la decisión (We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52720" y="1413000"/>
            <a:ext cx="5326200" cy="5184720"/>
            <a:chOff x="3852720" y="1413000"/>
            <a:chExt cx="5326200" cy="5184720"/>
          </a:xfrm>
        </p:grpSpPr>
        <p:sp>
          <p:nvSpPr>
            <p:cNvPr id="218" name=""/>
            <p:cNvSpPr/>
            <p:nvPr/>
          </p:nvSpPr>
          <p:spPr>
            <a:xfrm>
              <a:off x="5437080" y="1413000"/>
              <a:ext cx="3598920" cy="42480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25800" y="148428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Objetivos de negoci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5440" y="2637000"/>
              <a:ext cx="165600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Domini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51640" y="2295360"/>
              <a:ext cx="172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Necesidades product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653080" y="1557360"/>
              <a:ext cx="2160720" cy="720720"/>
              <a:chOff x="5653080" y="1557360"/>
              <a:chExt cx="2160720" cy="720720"/>
            </a:xfrm>
          </p:grpSpPr>
          <p:sp>
            <p:nvSpPr>
              <p:cNvPr id="223" name=""/>
              <p:cNvSpPr/>
              <p:nvPr/>
            </p:nvSpPr>
            <p:spPr>
              <a:xfrm>
                <a:off x="5869080" y="1557360"/>
                <a:ext cx="180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000" spc="-1" strike="noStrike">
                    <a:solidFill>
                      <a:srgbClr val="40458c"/>
                    </a:solidFill>
                    <a:latin typeface="Tahoma"/>
                  </a:rPr>
                  <a:t>Ingeniería del dominio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53080" y="1557360"/>
                <a:ext cx="2160720" cy="72072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545080" y="3429000"/>
              <a:ext cx="2376720" cy="720720"/>
              <a:chOff x="5545080" y="3429000"/>
              <a:chExt cx="2376720" cy="7207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545080" y="3429000"/>
                <a:ext cx="2376720" cy="720720"/>
                <a:chOff x="5545080" y="3429000"/>
                <a:chExt cx="2376720" cy="720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545080" y="3429000"/>
                  <a:ext cx="2160720" cy="72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616720" y="3429000"/>
                  <a:ext cx="2160360" cy="7207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761080" y="3429000"/>
                  <a:ext cx="2160720" cy="7207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545080" y="3429000"/>
                <a:ext cx="2160720" cy="720720"/>
                <a:chOff x="5545080" y="3429000"/>
                <a:chExt cx="2160720" cy="7207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545080" y="3429000"/>
                  <a:ext cx="2160720" cy="72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689440" y="3429000"/>
                  <a:ext cx="1873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u-ES" sz="2000" spc="-1" strike="noStrike">
                      <a:solidFill>
                        <a:srgbClr val="40458c"/>
                      </a:solidFill>
                      <a:latin typeface="Tahoma"/>
                    </a:rPr>
                    <a:t>Ingeniería de aplicaciones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545080" y="5877000"/>
              <a:ext cx="2376720" cy="720720"/>
              <a:chOff x="5545080" y="5877000"/>
              <a:chExt cx="2376720" cy="7207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545080" y="5877000"/>
                <a:ext cx="2376720" cy="720720"/>
                <a:chOff x="5545080" y="5877000"/>
                <a:chExt cx="2376720" cy="7207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545080" y="5877000"/>
                  <a:ext cx="2160720" cy="72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616720" y="5877000"/>
                  <a:ext cx="2160360" cy="7207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61080" y="5877000"/>
                  <a:ext cx="2160720" cy="7207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545080" y="5877000"/>
                <a:ext cx="2160720" cy="720720"/>
                <a:chOff x="5545080" y="5877000"/>
                <a:chExt cx="2160720" cy="720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545080" y="5877000"/>
                  <a:ext cx="2160720" cy="720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689440" y="5877000"/>
                  <a:ext cx="1873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u-ES" sz="2000" spc="-1" strike="noStrike">
                      <a:solidFill>
                        <a:srgbClr val="40458c"/>
                      </a:solidFill>
                      <a:latin typeface="Tahoma"/>
                    </a:rPr>
                    <a:t>Uso del producto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3852720" y="5680080"/>
              <a:ext cx="172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Necesidades client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832360" y="4508640"/>
              <a:ext cx="1800360" cy="847800"/>
              <a:chOff x="5832360" y="4508640"/>
              <a:chExt cx="1800360" cy="847800"/>
            </a:xfrm>
          </p:grpSpPr>
          <p:sp>
            <p:nvSpPr>
              <p:cNvPr id="243" name=""/>
              <p:cNvSpPr/>
              <p:nvPr/>
            </p:nvSpPr>
            <p:spPr>
              <a:xfrm>
                <a:off x="5976720" y="4652640"/>
                <a:ext cx="1656000" cy="70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u-ES" sz="2000" spc="-1" strike="noStrike">
                    <a:solidFill>
                      <a:srgbClr val="40458c"/>
                    </a:solidFill>
                    <a:latin typeface="Tahoma"/>
                  </a:rPr>
                  <a:t>Producto aplicación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3640" y="4579560"/>
                <a:ext cx="1656000" cy="70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u-ES" sz="2000" spc="-1" strike="noStrike">
                    <a:solidFill>
                      <a:srgbClr val="40458c"/>
                    </a:solidFill>
                    <a:latin typeface="Tahoma"/>
                  </a:rPr>
                  <a:t>Producto aplicación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32360" y="4508640"/>
                <a:ext cx="1655640" cy="70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u-ES" sz="2000" spc="-1" strike="noStrike">
                    <a:solidFill>
                      <a:srgbClr val="40458c"/>
                    </a:solidFill>
                    <a:latin typeface="Tahoma"/>
                  </a:rPr>
                  <a:t>Producto aplicación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661080" y="227664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306864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9640" y="4221000"/>
              <a:ext cx="0" cy="287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59640" y="5373720"/>
              <a:ext cx="0" cy="503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6720" y="378936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17080" y="2997360"/>
              <a:ext cx="0" cy="7920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317080" y="1844640"/>
              <a:ext cx="0" cy="5047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811640" y="1844640"/>
              <a:ext cx="5050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148000" y="623736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716360" y="3789360"/>
              <a:ext cx="0" cy="19447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16360" y="3789360"/>
              <a:ext cx="792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2720" y="184464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BE8-3325-4FC5-B101-F3A525CE4D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Nuestra op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5259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+D+I en la gestión de procesos ví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ominio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yuda a la decisión en la gestión de proce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tamiento del as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sarrollo del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SS tratamiento as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SS gestión proceso desarrollo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29080" y="2492280"/>
            <a:ext cx="3780000" cy="3494520"/>
            <a:chOff x="5329080" y="2492280"/>
            <a:chExt cx="3780000" cy="3494520"/>
          </a:xfrm>
        </p:grpSpPr>
        <p:sp>
          <p:nvSpPr>
            <p:cNvPr id="261" name=""/>
            <p:cNvSpPr/>
            <p:nvPr/>
          </p:nvSpPr>
          <p:spPr>
            <a:xfrm>
              <a:off x="6121080" y="2492280"/>
              <a:ext cx="273528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u-ES" sz="2000" spc="-1" strike="noStrike">
                  <a:solidFill>
                    <a:srgbClr val="40458c"/>
                  </a:solidFill>
                  <a:latin typeface="Tahoma"/>
                </a:rPr>
                <a:t>Framework</a:t>
              </a: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PROMAF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29080" y="3668400"/>
              <a:ext cx="316872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u-ES" sz="2000" spc="-1" strike="noStrike">
                  <a:solidFill>
                    <a:srgbClr val="40458c"/>
                  </a:solidFill>
                  <a:latin typeface="Tahoma"/>
                </a:rPr>
                <a:t>Framework</a:t>
              </a: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ASPROMAF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2360" y="4244760"/>
              <a:ext cx="327672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u-ES" sz="2000" spc="-1" strike="noStrike">
                  <a:solidFill>
                    <a:srgbClr val="40458c"/>
                  </a:solidFill>
                  <a:latin typeface="Tahoma"/>
                </a:rPr>
                <a:t>Framework</a:t>
              </a: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SOPROMAF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29440" y="5587920"/>
              <a:ext cx="197964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DSS</a:t>
              </a: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 SP-Kude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29080" y="5011560"/>
              <a:ext cx="1727280" cy="398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40458c"/>
                  </a:solidFill>
                  <a:latin typeface="Tahoma"/>
                </a:rPr>
                <a:t>DSS</a:t>
              </a:r>
              <a:r>
                <a:rPr b="1" lang="eu-ES" sz="2000" spc="-1" strike="noStrike">
                  <a:solidFill>
                    <a:srgbClr val="40458c"/>
                  </a:solidFill>
                  <a:latin typeface="Tahoma"/>
                </a:rPr>
                <a:t> Arnas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69080" y="4651200"/>
              <a:ext cx="0" cy="936720"/>
            </a:xfrm>
            <a:prstGeom prst="line">
              <a:avLst/>
            </a:prstGeom>
            <a:ln w="38160">
              <a:solidFill>
                <a:srgbClr val="40458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45080" y="4074840"/>
              <a:ext cx="0" cy="936720"/>
            </a:xfrm>
            <a:prstGeom prst="line">
              <a:avLst/>
            </a:prstGeom>
            <a:ln w="38160">
              <a:solidFill>
                <a:srgbClr val="40458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488000" y="2922480"/>
              <a:ext cx="144720" cy="720720"/>
              <a:chOff x="7488000" y="2922480"/>
              <a:chExt cx="144720" cy="72072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7561080" y="3139920"/>
                <a:ext cx="0" cy="503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88000" y="2922480"/>
                <a:ext cx="144720" cy="2174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8712000" y="3141360"/>
              <a:ext cx="1800" cy="1077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640720" y="2923920"/>
              <a:ext cx="144360" cy="2174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79E-EC49-4AF6-8DE5-73C997C919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rquitectura de los </a:t>
            </a:r>
            <a:r>
              <a:rPr b="0" i="1" lang="es-ES" sz="4400" spc="-1" strike="noStrike">
                <a:solidFill>
                  <a:srgbClr val="660066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1484280"/>
            <a:ext cx="9141840" cy="5042520"/>
            <a:chOff x="0" y="1484280"/>
            <a:chExt cx="9141840" cy="5042520"/>
          </a:xfrm>
        </p:grpSpPr>
        <p:grpSp>
          <p:nvGrpSpPr>
            <p:cNvPr id="275" name=""/>
            <p:cNvGrpSpPr/>
            <p:nvPr/>
          </p:nvGrpSpPr>
          <p:grpSpPr>
            <a:xfrm>
              <a:off x="0" y="1484280"/>
              <a:ext cx="9141840" cy="5042520"/>
              <a:chOff x="0" y="1484280"/>
              <a:chExt cx="9141840" cy="504252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0" y="1484280"/>
                <a:ext cx="9141840" cy="5042520"/>
                <a:chOff x="0" y="1484280"/>
                <a:chExt cx="9141840" cy="504252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278" name=""/>
                <p:cNvSpPr/>
                <p:nvPr/>
              </p:nvSpPr>
              <p:spPr>
                <a:xfrm>
                  <a:off x="2846160" y="1484280"/>
                  <a:ext cx="5995080" cy="5042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782160" y="3631320"/>
                  <a:ext cx="2212200" cy="93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 de BDs</a:t>
                  </a:r>
                  <a:r>
                    <a:rPr b="0" lang="es-ES" sz="900" spc="-1" strike="noStrike">
                      <a:solidFill>
                        <a:srgbClr val="40458c"/>
                      </a:solidFill>
                      <a:latin typeface="Tahoma"/>
                    </a:rPr>
                    <a:t> </a:t>
                  </a:r>
                  <a:endParaRPr b="0" lang="en-US" sz="9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13440" y="1484280"/>
                  <a:ext cx="627264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43880" y="4968360"/>
                  <a:ext cx="2850840" cy="124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Protégé</a:t>
                  </a: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 servidor conocimiento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0" y="2642760"/>
                  <a:ext cx="2452680" cy="2841480"/>
                  <a:chOff x="0" y="2642760"/>
                  <a:chExt cx="2452680" cy="28414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42640" y="2680200"/>
                    <a:ext cx="1967040" cy="2804040"/>
                  </a:xfrm>
                  <a:custGeom>
                    <a:avLst/>
                    <a:gdLst>
                      <a:gd name="textAreaLeft" fmla="*/ 95760 w 1967040"/>
                      <a:gd name="textAreaRight" fmla="*/ 1871280 w 1967040"/>
                      <a:gd name="textAreaTop" fmla="*/ 95760 h 2804040"/>
                      <a:gd name="textAreaBottom" fmla="*/ 2708280 h 2804040"/>
                    </a:gdLst>
                    <a:ahLst/>
                    <a:rect l="textAreaLeft" t="textAreaTop" r="textAreaRight" b="textAreaBottom"/>
                    <a:pathLst>
                      <a:path w="21600" h="3078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189"/>
                        </a:lnTo>
                        <a:arcTo wR="3600" hR="3600" stAng="10800000" swAng="-5400000"/>
                        <a:lnTo>
                          <a:pt x="18000" y="3078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6080" y="2642760"/>
                    <a:ext cx="236052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Cliente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0" y="3577680"/>
                    <a:ext cx="245268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Navegador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42640" y="4557600"/>
                    <a:ext cx="196704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applets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3143880" y="2472840"/>
                  <a:ext cx="285084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 aplicaciones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6226560" y="2086560"/>
                  <a:ext cx="2915280" cy="3723480"/>
                  <a:chOff x="6226560" y="2086560"/>
                  <a:chExt cx="2915280" cy="372348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6226560" y="2086560"/>
                    <a:ext cx="2897640" cy="1252440"/>
                    <a:chOff x="6226560" y="2086560"/>
                    <a:chExt cx="2897640" cy="12524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558480" y="2103480"/>
                      <a:ext cx="217260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226560" y="2086560"/>
                      <a:ext cx="289764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arametrización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istem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6243840" y="4557600"/>
                    <a:ext cx="2898000" cy="1252440"/>
                    <a:chOff x="6243840" y="4557600"/>
                    <a:chExt cx="2898000" cy="12524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575760" y="4574520"/>
                      <a:ext cx="217296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6243840" y="4557600"/>
                      <a:ext cx="289800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ocimiento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ominio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6243840" y="3322080"/>
                    <a:ext cx="2898000" cy="1252440"/>
                    <a:chOff x="6243840" y="3322080"/>
                    <a:chExt cx="2898000" cy="12524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6575760" y="3339000"/>
                      <a:ext cx="217296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6243840" y="3322080"/>
                      <a:ext cx="289800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atos d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volución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8" name=""/>
                <p:cNvSpPr/>
                <p:nvPr/>
              </p:nvSpPr>
              <p:spPr>
                <a:xfrm>
                  <a:off x="2168640" y="4247640"/>
                  <a:ext cx="677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 flipV="1">
                <a:off x="6119640" y="3029040"/>
                <a:ext cx="407880" cy="61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3260160" y="3337560"/>
                <a:ext cx="3960" cy="154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4080600" y="3337920"/>
                <a:ext cx="81576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80600" y="4573800"/>
                <a:ext cx="81576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119640" y="3955320"/>
                <a:ext cx="40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H="1" flipV="1">
              <a:off x="6119280" y="4249080"/>
              <a:ext cx="40788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08F-9A9B-4B8A-97C7-CB66D82DEA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ado actu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1484280"/>
            <a:ext cx="9141840" cy="5042520"/>
            <a:chOff x="0" y="1484280"/>
            <a:chExt cx="9141840" cy="5042520"/>
          </a:xfrm>
        </p:grpSpPr>
        <p:grpSp>
          <p:nvGrpSpPr>
            <p:cNvPr id="307" name=""/>
            <p:cNvGrpSpPr/>
            <p:nvPr/>
          </p:nvGrpSpPr>
          <p:grpSpPr>
            <a:xfrm>
              <a:off x="0" y="1484280"/>
              <a:ext cx="9141840" cy="5042520"/>
              <a:chOff x="0" y="1484280"/>
              <a:chExt cx="9141840" cy="50425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0" y="1484280"/>
                <a:ext cx="9141840" cy="5042520"/>
                <a:chOff x="0" y="1484280"/>
                <a:chExt cx="9141840" cy="504252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310" name=""/>
                <p:cNvSpPr/>
                <p:nvPr/>
              </p:nvSpPr>
              <p:spPr>
                <a:xfrm>
                  <a:off x="2846160" y="1484280"/>
                  <a:ext cx="5995080" cy="5042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782160" y="3631320"/>
                  <a:ext cx="2212200" cy="93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 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de BDs</a:t>
                  </a:r>
                  <a:r>
                    <a:rPr b="0" lang="es-ES" sz="900" spc="-1" strike="noStrike">
                      <a:solidFill>
                        <a:srgbClr val="40458c"/>
                      </a:solidFill>
                      <a:latin typeface="Tahoma"/>
                    </a:rPr>
                    <a:t> </a:t>
                  </a:r>
                  <a:endParaRPr b="0" lang="en-US" sz="9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413440" y="1484280"/>
                  <a:ext cx="627264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143880" y="4968360"/>
                  <a:ext cx="2850840" cy="1247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Protégé</a:t>
                  </a: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 servidor conocimiento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0" y="2642760"/>
                  <a:ext cx="2452680" cy="2841480"/>
                  <a:chOff x="0" y="2642760"/>
                  <a:chExt cx="2452680" cy="28414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42640" y="2680200"/>
                    <a:ext cx="1967040" cy="2804040"/>
                  </a:xfrm>
                  <a:custGeom>
                    <a:avLst/>
                    <a:gdLst>
                      <a:gd name="textAreaLeft" fmla="*/ 95760 w 1967040"/>
                      <a:gd name="textAreaRight" fmla="*/ 1871280 w 1967040"/>
                      <a:gd name="textAreaTop" fmla="*/ 95760 h 2804040"/>
                      <a:gd name="textAreaBottom" fmla="*/ 2708280 h 2804040"/>
                    </a:gdLst>
                    <a:ahLst/>
                    <a:rect l="textAreaLeft" t="textAreaTop" r="textAreaRight" b="textAreaBottom"/>
                    <a:pathLst>
                      <a:path w="21600" h="3078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189"/>
                        </a:lnTo>
                        <a:arcTo wR="3600" hR="3600" stAng="10800000" swAng="-5400000"/>
                        <a:lnTo>
                          <a:pt x="18000" y="3078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080" y="2642760"/>
                    <a:ext cx="236052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Cliente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0" y="3577680"/>
                    <a:ext cx="245268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Navegador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2640" y="4557600"/>
                    <a:ext cx="1967040" cy="62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" sz="2400" spc="-1" strike="noStrike">
                        <a:solidFill>
                          <a:srgbClr val="40458c"/>
                        </a:solidFill>
                        <a:latin typeface="Tahoma"/>
                      </a:rPr>
                      <a:t>applets</a:t>
                    </a:r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" name=""/>
                <p:cNvSpPr/>
                <p:nvPr/>
              </p:nvSpPr>
              <p:spPr>
                <a:xfrm>
                  <a:off x="3143880" y="2472840"/>
                  <a:ext cx="285084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40458c"/>
                      </a:solidFill>
                      <a:latin typeface="Tahoma"/>
                    </a:rPr>
                    <a:t>Servidor aplicaciones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6226560" y="2086560"/>
                  <a:ext cx="2915280" cy="3723480"/>
                  <a:chOff x="6226560" y="2086560"/>
                  <a:chExt cx="2915280" cy="372348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226560" y="2086560"/>
                    <a:ext cx="2897640" cy="1252440"/>
                    <a:chOff x="6226560" y="2086560"/>
                    <a:chExt cx="2897640" cy="12524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558480" y="2103480"/>
                      <a:ext cx="217260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226560" y="2086560"/>
                      <a:ext cx="289764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arametrización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istem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6243840" y="4557600"/>
                    <a:ext cx="2898000" cy="1252440"/>
                    <a:chOff x="6243840" y="4557600"/>
                    <a:chExt cx="2898000" cy="12524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6575760" y="4574520"/>
                      <a:ext cx="217296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6243840" y="4557600"/>
                      <a:ext cx="289800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ocimiento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ominio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6243840" y="3322080"/>
                    <a:ext cx="2898000" cy="1252440"/>
                    <a:chOff x="6243840" y="3322080"/>
                    <a:chExt cx="2898000" cy="12524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6575760" y="3339000"/>
                      <a:ext cx="2172960" cy="1235520"/>
                    </a:xfrm>
                    <a:prstGeom prst="flowChartMagneticDisk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43840" y="3322080"/>
                      <a:ext cx="2898000" cy="123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D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atos d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volución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0" name=""/>
                <p:cNvSpPr/>
                <p:nvPr/>
              </p:nvSpPr>
              <p:spPr>
                <a:xfrm>
                  <a:off x="2168640" y="4247640"/>
                  <a:ext cx="6775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 flipV="1">
                <a:off x="6119640" y="3029040"/>
                <a:ext cx="407880" cy="61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3260160" y="3337560"/>
                <a:ext cx="3960" cy="154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4080600" y="3337920"/>
                <a:ext cx="81576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80600" y="4573800"/>
                <a:ext cx="81576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119640" y="3955320"/>
                <a:ext cx="40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 flipV="1">
              <a:off x="6119280" y="4249080"/>
              <a:ext cx="40788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1413000"/>
            <a:ext cx="8569080" cy="5040360"/>
          </a:xfrm>
          <a:prstGeom prst="flowChartAlternateProcess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0920" y="1557360"/>
            <a:ext cx="3816360" cy="2808360"/>
            <a:chOff x="250920" y="1557360"/>
            <a:chExt cx="3816360" cy="2808360"/>
          </a:xfrm>
        </p:grpSpPr>
        <p:sp>
          <p:nvSpPr>
            <p:cNvPr id="339" name=""/>
            <p:cNvSpPr/>
            <p:nvPr/>
          </p:nvSpPr>
          <p:spPr>
            <a:xfrm>
              <a:off x="250920" y="1557360"/>
              <a:ext cx="3816360" cy="2808360"/>
            </a:xfrm>
            <a:prstGeom prst="wedgeRectCallout">
              <a:avLst>
                <a:gd name="adj1" fmla="val 64976"/>
                <a:gd name="adj2" fmla="val -13481"/>
              </a:avLst>
            </a:prstGeom>
            <a:solidFill>
              <a:srgbClr val="ffffff"/>
            </a:solidFill>
            <a:ln w="442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Internacionaliza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6ff33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Control acceso ro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6ff33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Visualización 3D-2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6ff33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Análisis de dat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6ff33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Consultoría entre ro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00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Gestión de pla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cc00"/>
                </a:buClr>
                <a:buSzPct val="15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400" spc="-1" strike="noStrike">
                  <a:solidFill>
                    <a:srgbClr val="40458c"/>
                  </a:solidFill>
                  <a:latin typeface="Tahoma"/>
                </a:rPr>
                <a:t>Comunicaciones ro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421000"/>
              <a:ext cx="3384360" cy="10080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4000" y="3429000"/>
              <a:ext cx="3384360" cy="8636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000" y="1628640"/>
              <a:ext cx="3384360" cy="792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50920" y="4653000"/>
            <a:ext cx="3457440" cy="1944720"/>
          </a:xfrm>
          <a:prstGeom prst="wedgeRectCallout">
            <a:avLst>
              <a:gd name="adj1" fmla="val 68087"/>
              <a:gd name="adj2" fmla="val 13754"/>
            </a:avLst>
          </a:prstGeom>
          <a:solidFill>
            <a:srgbClr val="ffffff"/>
          </a:solidFill>
          <a:ln w="442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Gestión conoci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Abstracciones temp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Generación alternativ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86200" y="5661000"/>
            <a:ext cx="4249800" cy="936720"/>
          </a:xfrm>
          <a:prstGeom prst="wedgeRoundRectCallout">
            <a:avLst>
              <a:gd name="adj1" fmla="val -3268"/>
              <a:gd name="adj2" fmla="val -90675"/>
              <a:gd name="adj3" fmla="val 16667"/>
            </a:avLst>
          </a:prstGeom>
          <a:solidFill>
            <a:srgbClr val="e6ecfe"/>
          </a:solidFill>
          <a:ln w="442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Desarrollo de ontologí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u-ES" sz="2400" spc="-1" strike="noStrike">
                <a:solidFill>
                  <a:srgbClr val="40458c"/>
                </a:solidFill>
                <a:latin typeface="Tahoma"/>
              </a:rPr>
              <a:t>RUP-CommonKA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83F-543B-49FC-AAAA-78775DFDC8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660066"/>
                </a:solidFill>
                <a:latin typeface="Tahoma"/>
              </a:rPr>
              <a:t>Re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Personal: 2 bec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 u="sng">
                <a:solidFill>
                  <a:srgbClr val="40458c"/>
                </a:solidFill>
                <a:uFillTx/>
                <a:latin typeface="Tahoma"/>
              </a:rPr>
              <a:t>Desarrollo</a:t>
            </a:r>
            <a:r>
              <a:rPr b="0" lang="eu-ES" sz="2800" spc="-1" strike="noStrike">
                <a:solidFill>
                  <a:srgbClr val="40458c"/>
                </a:solidFill>
                <a:latin typeface="Tahoma"/>
              </a:rPr>
              <a:t>: Proyectos Fin de Carr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Metodología: </a:t>
            </a:r>
            <a:r>
              <a:rPr b="0" i="1" lang="eu-ES" sz="3200" spc="-1" strike="noStrike">
                <a:solidFill>
                  <a:srgbClr val="40458c"/>
                </a:solidFill>
                <a:latin typeface="Tahoma"/>
              </a:rPr>
              <a:t>Rational Unified Proc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Herramientas: </a:t>
            </a:r>
            <a:r>
              <a:rPr b="0" i="1" lang="eu-ES" sz="3200" spc="-1" strike="noStrike">
                <a:solidFill>
                  <a:srgbClr val="40458c"/>
                </a:solidFill>
                <a:latin typeface="Tahoma"/>
              </a:rPr>
              <a:t>J2EE, Rational Rose y Soda, Forte, HP-AS, SQL Server, Protégé-2000, Jess</a:t>
            </a: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Software abierto: </a:t>
            </a:r>
            <a:r>
              <a:rPr b="0" i="1" lang="eu-ES" sz="3200" spc="-1" strike="noStrike">
                <a:solidFill>
                  <a:srgbClr val="40458c"/>
                </a:solidFill>
                <a:latin typeface="Tahoma"/>
              </a:rPr>
              <a:t>Struts, JetSpeed, VisAd, Java Gantt Chart</a:t>
            </a: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Integración con </a:t>
            </a:r>
            <a:r>
              <a:rPr b="0" i="1" lang="eu-ES" sz="3200" spc="-1" strike="noStrike">
                <a:solidFill>
                  <a:srgbClr val="40458c"/>
                </a:solidFill>
                <a:latin typeface="Tahoma"/>
              </a:rPr>
              <a:t>SPSS</a:t>
            </a:r>
            <a:r>
              <a:rPr b="0" lang="eu-ES" sz="3200" spc="-1" strike="noStrike">
                <a:solidFill>
                  <a:srgbClr val="40458c"/>
                </a:solidFill>
                <a:latin typeface="Tahoma"/>
              </a:rPr>
              <a:t> y OLAP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02F-60BF-43F5-9C3C-57AB4C1FA7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mplem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44468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1B0-3AFD-4079-A47E-F3D732348A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6000" y="304560"/>
            <a:ext cx="43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utilización Conocimiento (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492360" y="279360"/>
            <a:ext cx="6481800" cy="6300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65200" y="1512720"/>
            <a:ext cx="3430440" cy="22212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737080" cy="26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unión 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3B4-109D-481D-B0F8-0775B897B8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eganes, 4-5/7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. M. PIKATZA</cp:lastModifiedBy>
  <dcterms:modified xsi:type="dcterms:W3CDTF">2002-07-11T07:09:42Z</dcterms:modified>
  <cp:revision>40</cp:revision>
  <dc:subject/>
  <dc:title>PowerPoint Presentation</dc:title>
</cp:coreProperties>
</file>