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2AE-588B-4B6C-BFA3-BA67106D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2C1-319B-4461-A378-EBC14BC4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081-56CF-46EB-9109-39B9F81E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76D-BB82-401E-A11B-2B98E83D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AB9-D523-4864-8946-6BD353E3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120-A34B-45F6-97F0-5F8A045A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CF9-5339-4A76-8729-28321212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1B2-12A1-4C3A-82D9-08A82CD8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3B0-9315-420E-9F58-6F1CE63D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5D4-8B4A-4EDC-B394-0612D79E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306-FA3C-4258-99C0-7D6CE7CC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1D9-BA5D-4D95-B459-95A9D133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2BED-5533-4634-8AC1-E3DB0763C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8600"/>
            <a:ext cx="6934320" cy="624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457200"/>
            <a:ext cx="22860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cord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4267080"/>
            <a:ext cx="236232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t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ctor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5760" y="38851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36800" y="59266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cta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1447920"/>
            <a:ext cx="236232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lay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2286000"/>
            <a:ext cx="22860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lete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3352680"/>
            <a:ext cx="236196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t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5410080"/>
            <a:ext cx="22860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atch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218960" y="1295280"/>
            <a:ext cx="251460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8960" y="2286000"/>
            <a:ext cx="373356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218960" y="2743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218960" y="380988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218960" y="3886200"/>
            <a:ext cx="3809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218960" y="3962160"/>
            <a:ext cx="251460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2438280" y="304920"/>
            <a:ext cx="2057400" cy="1447200"/>
            <a:chOff x="2438280" y="304920"/>
            <a:chExt cx="2057400" cy="1447200"/>
          </a:xfrm>
        </p:grpSpPr>
        <p:sp>
          <p:nvSpPr>
            <p:cNvPr id="58" name=""/>
            <p:cNvSpPr/>
            <p:nvPr/>
          </p:nvSpPr>
          <p:spPr>
            <a:xfrm>
              <a:off x="2438280" y="761760"/>
              <a:ext cx="205740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910440"/>
              <a:ext cx="19051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«subsystem»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larm 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38280" y="304920"/>
              <a:ext cx="838440" cy="45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438280" y="2590920"/>
            <a:ext cx="2057400" cy="1447200"/>
            <a:chOff x="2438280" y="2590920"/>
            <a:chExt cx="2057400" cy="1447200"/>
          </a:xfrm>
        </p:grpSpPr>
        <p:sp>
          <p:nvSpPr>
            <p:cNvPr id="62" name=""/>
            <p:cNvSpPr/>
            <p:nvPr/>
          </p:nvSpPr>
          <p:spPr>
            <a:xfrm>
              <a:off x="2438280" y="3047760"/>
              <a:ext cx="205740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3196440"/>
              <a:ext cx="19051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«subsystem»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38280" y="2590920"/>
              <a:ext cx="838440" cy="45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0880" y="4876920"/>
            <a:ext cx="2057400" cy="1447200"/>
            <a:chOff x="380880" y="4876920"/>
            <a:chExt cx="2057400" cy="1447200"/>
          </a:xfrm>
        </p:grpSpPr>
        <p:sp>
          <p:nvSpPr>
            <p:cNvPr id="66" name=""/>
            <p:cNvSpPr/>
            <p:nvPr/>
          </p:nvSpPr>
          <p:spPr>
            <a:xfrm>
              <a:off x="380880" y="5333760"/>
              <a:ext cx="205740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5482440"/>
              <a:ext cx="19051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«subsystem»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att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80" y="4876920"/>
              <a:ext cx="838440" cy="45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1752480" y="4038120"/>
            <a:ext cx="1143000" cy="129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505320" y="17521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248520" y="2590920"/>
            <a:ext cx="2057400" cy="1447200"/>
            <a:chOff x="6248520" y="2590920"/>
            <a:chExt cx="2057400" cy="1447200"/>
          </a:xfrm>
        </p:grpSpPr>
        <p:sp>
          <p:nvSpPr>
            <p:cNvPr id="72" name=""/>
            <p:cNvSpPr/>
            <p:nvPr/>
          </p:nvSpPr>
          <p:spPr>
            <a:xfrm>
              <a:off x="6248520" y="3047760"/>
              <a:ext cx="205740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24840" y="3196440"/>
              <a:ext cx="19051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«subsystem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8520" y="2590920"/>
              <a:ext cx="838440" cy="45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95680" y="350532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4114440" y="4038120"/>
            <a:ext cx="1143000" cy="129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495680" y="4876920"/>
            <a:ext cx="2057400" cy="1447200"/>
            <a:chOff x="4495680" y="4876920"/>
            <a:chExt cx="2057400" cy="1447200"/>
          </a:xfrm>
        </p:grpSpPr>
        <p:sp>
          <p:nvSpPr>
            <p:cNvPr id="78" name=""/>
            <p:cNvSpPr/>
            <p:nvPr/>
          </p:nvSpPr>
          <p:spPr>
            <a:xfrm>
              <a:off x="4495680" y="5333760"/>
              <a:ext cx="205740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5482440"/>
              <a:ext cx="19051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«subsystem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u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4876920"/>
              <a:ext cx="838440" cy="45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6019920" y="4038480"/>
            <a:ext cx="1295280" cy="129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505320" y="196920"/>
            <a:ext cx="2133360" cy="1631880"/>
            <a:chOff x="3505320" y="196920"/>
            <a:chExt cx="2133360" cy="1631880"/>
          </a:xfrm>
        </p:grpSpPr>
        <p:sp>
          <p:nvSpPr>
            <p:cNvPr id="83" name=""/>
            <p:cNvSpPr/>
            <p:nvPr/>
          </p:nvSpPr>
          <p:spPr>
            <a:xfrm>
              <a:off x="3505320" y="196920"/>
              <a:ext cx="1980720" cy="163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3360" y="212760"/>
              <a:ext cx="1858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Audio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05320" y="882360"/>
              <a:ext cx="19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5320" y="730080"/>
              <a:ext cx="19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880560"/>
              <a:ext cx="2133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GetAudioBlock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AppendAudioBlock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GetHeader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SetHeader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600200" y="3443400"/>
            <a:ext cx="2971800" cy="1280520"/>
            <a:chOff x="1600200" y="3443400"/>
            <a:chExt cx="2971800" cy="1280520"/>
          </a:xfrm>
        </p:grpSpPr>
        <p:sp>
          <p:nvSpPr>
            <p:cNvPr id="89" name=""/>
            <p:cNvSpPr/>
            <p:nvPr/>
          </p:nvSpPr>
          <p:spPr>
            <a:xfrm>
              <a:off x="1600200" y="3460680"/>
              <a:ext cx="2895480" cy="12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44340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Audio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udio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00200" y="411444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00200" y="396216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00200" y="4189320"/>
              <a:ext cx="297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RecordCompressedAudioBlock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SelectInputFilter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52280" y="196920"/>
            <a:ext cx="2513520" cy="1403280"/>
            <a:chOff x="152280" y="196920"/>
            <a:chExt cx="2513520" cy="1403280"/>
          </a:xfrm>
        </p:grpSpPr>
        <p:sp>
          <p:nvSpPr>
            <p:cNvPr id="95" name=""/>
            <p:cNvSpPr/>
            <p:nvPr/>
          </p:nvSpPr>
          <p:spPr>
            <a:xfrm>
              <a:off x="2216880" y="60840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0..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4600" y="228600"/>
              <a:ext cx="241632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7960" y="196920"/>
              <a:ext cx="2352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Audio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lockAu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4600" y="1066680"/>
              <a:ext cx="241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280" y="10656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GetSample () 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AddSample () 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0440" y="9144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26240" y="3367440"/>
            <a:ext cx="3276360" cy="1434960"/>
            <a:chOff x="5826240" y="3367440"/>
            <a:chExt cx="3276360" cy="1434960"/>
          </a:xfrm>
        </p:grpSpPr>
        <p:sp>
          <p:nvSpPr>
            <p:cNvPr id="102" name=""/>
            <p:cNvSpPr/>
            <p:nvPr/>
          </p:nvSpPr>
          <p:spPr>
            <a:xfrm>
              <a:off x="5867280" y="3384720"/>
              <a:ext cx="3124440" cy="141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6840" y="3367440"/>
              <a:ext cx="296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Audio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udio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403848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388620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26240" y="4069080"/>
              <a:ext cx="3276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PlayCompressedAudioBlock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PlayAlarmAudio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SelectOutputFilter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800600" y="4114800"/>
            <a:ext cx="762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«Audio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33720" y="5409000"/>
            <a:ext cx="1904760" cy="1144080"/>
            <a:chOff x="2133720" y="5409000"/>
            <a:chExt cx="1904760" cy="1144080"/>
          </a:xfrm>
        </p:grpSpPr>
        <p:sp>
          <p:nvSpPr>
            <p:cNvPr id="109" name=""/>
            <p:cNvSpPr/>
            <p:nvPr/>
          </p:nvSpPr>
          <p:spPr>
            <a:xfrm>
              <a:off x="2133720" y="5410080"/>
              <a:ext cx="190476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28640" y="5409000"/>
              <a:ext cx="111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Audio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icroph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5943600"/>
              <a:ext cx="19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3720" y="6095880"/>
              <a:ext cx="19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61711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RecordSampl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399000" y="5409000"/>
            <a:ext cx="1943280" cy="1144080"/>
            <a:chOff x="6399000" y="5409000"/>
            <a:chExt cx="1943280" cy="1144080"/>
          </a:xfrm>
        </p:grpSpPr>
        <p:sp>
          <p:nvSpPr>
            <p:cNvPr id="115" name=""/>
            <p:cNvSpPr/>
            <p:nvPr/>
          </p:nvSpPr>
          <p:spPr>
            <a:xfrm>
              <a:off x="6437160" y="5410080"/>
              <a:ext cx="190512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85440" y="5409000"/>
              <a:ext cx="80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Audio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ltavo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37160" y="594360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37160" y="609588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99000" y="6171120"/>
              <a:ext cx="134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PlaySampl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4956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4343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724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4800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58000" y="228600"/>
            <a:ext cx="2133720" cy="1843560"/>
            <a:chOff x="6858000" y="228600"/>
            <a:chExt cx="2133720" cy="1843560"/>
          </a:xfrm>
        </p:grpSpPr>
        <p:sp>
          <p:nvSpPr>
            <p:cNvPr id="125" name=""/>
            <p:cNvSpPr/>
            <p:nvPr/>
          </p:nvSpPr>
          <p:spPr>
            <a:xfrm>
              <a:off x="6858000" y="228600"/>
              <a:ext cx="1981080" cy="18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26400" y="263880"/>
              <a:ext cx="1858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Audio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udio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0" y="91440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0" y="76212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912600"/>
              <a:ext cx="2133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PlayMessag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RecordMessag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DeleteMessag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PlayAlarm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Stop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534520" y="2057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39116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743200"/>
            <a:ext cx="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160760" y="2057400"/>
            <a:ext cx="18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022560" y="2590920"/>
            <a:ext cx="41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990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590920" y="988560"/>
            <a:ext cx="917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209680"/>
            <a:ext cx="21333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«Audio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mpressedAudio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19320" y="1600200"/>
            <a:ext cx="228600" cy="609480"/>
            <a:chOff x="1219320" y="1600200"/>
            <a:chExt cx="228600" cy="609480"/>
          </a:xfrm>
        </p:grpSpPr>
        <p:sp>
          <p:nvSpPr>
            <p:cNvPr id="139" name=""/>
            <p:cNvSpPr/>
            <p:nvPr/>
          </p:nvSpPr>
          <p:spPr>
            <a:xfrm>
              <a:off x="1219320" y="160020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35240" y="1828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3022560" y="2590560"/>
            <a:ext cx="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240080" y="4891680"/>
            <a:ext cx="2008080" cy="1280160"/>
            <a:chOff x="4240080" y="4891680"/>
            <a:chExt cx="2008080" cy="1280160"/>
          </a:xfrm>
        </p:grpSpPr>
        <p:sp>
          <p:nvSpPr>
            <p:cNvPr id="143" name=""/>
            <p:cNvSpPr/>
            <p:nvPr/>
          </p:nvSpPr>
          <p:spPr>
            <a:xfrm flipH="1">
              <a:off x="4240080" y="4935240"/>
              <a:ext cx="2008080" cy="119052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46040" y="5173560"/>
              <a:ext cx="40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5080" y="4891680"/>
              <a:ext cx="191340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cording 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laying a sound sampl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s a task that requir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/6000th of secon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846040" y="4936680"/>
              <a:ext cx="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248520" y="5486400"/>
            <a:ext cx="99036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00400" y="5562360"/>
            <a:ext cx="106668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684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6019920" y="2558880"/>
            <a:ext cx="2133360" cy="1632240"/>
            <a:chOff x="6019920" y="2558880"/>
            <a:chExt cx="2133360" cy="1632240"/>
          </a:xfrm>
        </p:grpSpPr>
        <p:sp>
          <p:nvSpPr>
            <p:cNvPr id="151" name=""/>
            <p:cNvSpPr/>
            <p:nvPr/>
          </p:nvSpPr>
          <p:spPr>
            <a:xfrm>
              <a:off x="6019920" y="2558880"/>
              <a:ext cx="1980720" cy="1632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7960" y="2575080"/>
              <a:ext cx="1858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Audio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920" y="3244680"/>
              <a:ext cx="19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19920" y="3092400"/>
              <a:ext cx="19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9920" y="3243240"/>
              <a:ext cx="2133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GetAudioBlock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AppendAudioBlock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GetHeader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SetHeader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283920" y="533304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71600" y="2558880"/>
            <a:ext cx="1981080" cy="1405080"/>
            <a:chOff x="1371600" y="2558880"/>
            <a:chExt cx="1981080" cy="1405080"/>
          </a:xfrm>
        </p:grpSpPr>
        <p:sp>
          <p:nvSpPr>
            <p:cNvPr id="158" name=""/>
            <p:cNvSpPr/>
            <p:nvPr/>
          </p:nvSpPr>
          <p:spPr>
            <a:xfrm>
              <a:off x="1371600" y="2558880"/>
              <a:ext cx="1981080" cy="1403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0000" y="2575440"/>
              <a:ext cx="1858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«Memory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essage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1600" y="324468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309240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3230640"/>
              <a:ext cx="1905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NewMessag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GetMessag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DeleteMessag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447920" y="533520"/>
            <a:ext cx="17524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«Audio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udio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5410080"/>
            <a:ext cx="17528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«Audio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udio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3200400"/>
            <a:ext cx="533520" cy="3049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8640" y="533304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s  a  sequence 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33526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2095200" y="1257120"/>
            <a:ext cx="533520" cy="3049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1676520"/>
            <a:ext cx="0" cy="88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8480" y="30470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3400" y="22086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2095560" y="4076280"/>
            <a:ext cx="533160" cy="30492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44956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3400" y="51044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5715000"/>
            <a:ext cx="38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086600" y="41907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09480"/>
            <a:ext cx="9144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Al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740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A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609480"/>
            <a:ext cx="12189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6132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Audio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53280" y="6094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Spe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61048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1600200"/>
            <a:ext cx="152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34520" y="29718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0600" y="1248480"/>
            <a:ext cx="152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sPlayMessage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60480" y="1401120"/>
            <a:ext cx="11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Message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2320" y="9896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actor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685800" cy="838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236600"/>
            <a:ext cx="0" cy="4641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447920"/>
            <a:ext cx="152640" cy="42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752480"/>
            <a:ext cx="15228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19051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4191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553080" y="6019920"/>
            <a:ext cx="2285640" cy="533160"/>
            <a:chOff x="6553080" y="6019920"/>
            <a:chExt cx="2285640" cy="533160"/>
          </a:xfrm>
        </p:grpSpPr>
        <p:sp>
          <p:nvSpPr>
            <p:cNvPr id="199" name=""/>
            <p:cNvSpPr/>
            <p:nvPr/>
          </p:nvSpPr>
          <p:spPr>
            <a:xfrm flipH="1">
              <a:off x="6553080" y="6019920"/>
              <a:ext cx="227880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 Play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79720" y="612720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37972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5742000" y="609480"/>
            <a:ext cx="111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x: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05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9800" y="159948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tMessa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23623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23623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90160" y="2086920"/>
            <a:ext cx="196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[i = 1..n] GetAudioBlock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2819520"/>
            <a:ext cx="1526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544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[i = 1..n] PlayCompressedAudioBlock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2120" y="1523880"/>
            <a:ext cx="1828440" cy="76320"/>
            <a:chOff x="762120" y="1523880"/>
            <a:chExt cx="1828440" cy="76320"/>
          </a:xfrm>
        </p:grpSpPr>
        <p:sp>
          <p:nvSpPr>
            <p:cNvPr id="212" name=""/>
            <p:cNvSpPr/>
            <p:nvPr/>
          </p:nvSpPr>
          <p:spPr>
            <a:xfrm>
              <a:off x="762120" y="1600200"/>
              <a:ext cx="18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2361960" y="1523880"/>
              <a:ext cx="2282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743200" y="1752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8920" y="2283480"/>
            <a:ext cx="1137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[j := 1..2000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Sampl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86200" y="2743200"/>
            <a:ext cx="3581280" cy="76320"/>
            <a:chOff x="3886200" y="2743200"/>
            <a:chExt cx="3581280" cy="76320"/>
          </a:xfrm>
        </p:grpSpPr>
        <p:sp>
          <p:nvSpPr>
            <p:cNvPr id="217" name=""/>
            <p:cNvSpPr/>
            <p:nvPr/>
          </p:nvSpPr>
          <p:spPr>
            <a:xfrm>
              <a:off x="3886200" y="2819520"/>
              <a:ext cx="358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320960" y="2743200"/>
              <a:ext cx="14580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620120" y="2895480"/>
            <a:ext cx="914400" cy="76320"/>
            <a:chOff x="7620120" y="2895480"/>
            <a:chExt cx="914400" cy="76320"/>
          </a:xfrm>
        </p:grpSpPr>
        <p:sp>
          <p:nvSpPr>
            <p:cNvPr id="220" name=""/>
            <p:cNvSpPr/>
            <p:nvPr/>
          </p:nvSpPr>
          <p:spPr>
            <a:xfrm>
              <a:off x="7620120" y="2971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8403840" y="2895480"/>
              <a:ext cx="130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42400" y="2925000"/>
            <a:ext cx="164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sDeleteMessage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62120" y="3200400"/>
            <a:ext cx="1828440" cy="76320"/>
            <a:chOff x="762120" y="3200400"/>
            <a:chExt cx="1828440" cy="76320"/>
          </a:xfrm>
        </p:grpSpPr>
        <p:sp>
          <p:nvSpPr>
            <p:cNvPr id="224" name=""/>
            <p:cNvSpPr/>
            <p:nvPr/>
          </p:nvSpPr>
          <p:spPr>
            <a:xfrm>
              <a:off x="762120" y="3276720"/>
              <a:ext cx="18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361960" y="3200400"/>
              <a:ext cx="2282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676520" y="4343040"/>
            <a:ext cx="914400" cy="76320"/>
            <a:chOff x="1676520" y="4343040"/>
            <a:chExt cx="914400" cy="76320"/>
          </a:xfrm>
        </p:grpSpPr>
        <p:sp>
          <p:nvSpPr>
            <p:cNvPr id="227" name=""/>
            <p:cNvSpPr/>
            <p:nvPr/>
          </p:nvSpPr>
          <p:spPr>
            <a:xfrm>
              <a:off x="1676520" y="4419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2379600" y="4343040"/>
              <a:ext cx="210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747880" y="307728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eteMessage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1911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29040" y="388548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leteMessa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86200" y="3581280"/>
            <a:ext cx="380880" cy="228600"/>
            <a:chOff x="3886200" y="3581280"/>
            <a:chExt cx="380880" cy="228600"/>
          </a:xfrm>
        </p:grpSpPr>
        <p:sp>
          <p:nvSpPr>
            <p:cNvPr id="233" name=""/>
            <p:cNvSpPr/>
            <p:nvPr/>
          </p:nvSpPr>
          <p:spPr>
            <a:xfrm>
              <a:off x="3886200" y="3581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3581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886200" y="3809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948120" y="327600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op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4572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46440" y="4220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Alarm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609480"/>
            <a:ext cx="9144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219320"/>
            <a:ext cx="0" cy="464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4419720"/>
            <a:ext cx="1526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12880" y="411408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arm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9520" y="518076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sStop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65520" y="536328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op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2120" y="5410080"/>
            <a:ext cx="1828440" cy="76320"/>
            <a:chOff x="762120" y="5410080"/>
            <a:chExt cx="1828440" cy="76320"/>
          </a:xfrm>
        </p:grpSpPr>
        <p:sp>
          <p:nvSpPr>
            <p:cNvPr id="247" name=""/>
            <p:cNvSpPr/>
            <p:nvPr/>
          </p:nvSpPr>
          <p:spPr>
            <a:xfrm>
              <a:off x="762120" y="5486400"/>
              <a:ext cx="18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2361960" y="5410080"/>
              <a:ext cx="2282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7467480" y="4724280"/>
            <a:ext cx="15264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86200" y="4647960"/>
            <a:ext cx="3581280" cy="76320"/>
            <a:chOff x="3886200" y="4647960"/>
            <a:chExt cx="3581280" cy="76320"/>
          </a:xfrm>
        </p:grpSpPr>
        <p:sp>
          <p:nvSpPr>
            <p:cNvPr id="251" name=""/>
            <p:cNvSpPr/>
            <p:nvPr/>
          </p:nvSpPr>
          <p:spPr>
            <a:xfrm>
              <a:off x="3886200" y="4724280"/>
              <a:ext cx="358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7314840" y="464796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886200" y="4448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AlarmAudio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20120" y="4800600"/>
            <a:ext cx="914400" cy="76320"/>
            <a:chOff x="7620120" y="4800600"/>
            <a:chExt cx="914400" cy="76320"/>
          </a:xfrm>
        </p:grpSpPr>
        <p:sp>
          <p:nvSpPr>
            <p:cNvPr id="255" name=""/>
            <p:cNvSpPr/>
            <p:nvPr/>
          </p:nvSpPr>
          <p:spPr>
            <a:xfrm>
              <a:off x="7620120" y="487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8403840" y="4800600"/>
              <a:ext cx="130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8534520" y="48769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5638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428640" y="6171840"/>
            <a:ext cx="1295280" cy="381240"/>
            <a:chOff x="3428640" y="6171840"/>
            <a:chExt cx="1295280" cy="381240"/>
          </a:xfrm>
        </p:grpSpPr>
        <p:sp>
          <p:nvSpPr>
            <p:cNvPr id="260" name=""/>
            <p:cNvSpPr/>
            <p:nvPr/>
          </p:nvSpPr>
          <p:spPr>
            <a:xfrm flipH="1">
              <a:off x="3428280" y="6172200"/>
              <a:ext cx="1291320" cy="3808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{60 seconds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64000" y="624888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464000" y="61718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V="1">
            <a:off x="4038480" y="4647960"/>
            <a:ext cx="838440" cy="1523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6320" y="4188600"/>
            <a:ext cx="1171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* [k := 1..2000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ySampl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36520" y="257652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Al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3886200"/>
            <a:ext cx="111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A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1371600"/>
            <a:ext cx="12189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18520" y="4114800"/>
            <a:ext cx="111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OutputA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5257800"/>
            <a:ext cx="8384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Spe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47960" y="403776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1.1: Stop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6610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actor" descr=""/>
          <p:cNvPicPr/>
          <p:nvPr/>
        </p:nvPicPr>
        <p:blipFill>
          <a:blip r:embed="rId1"/>
          <a:stretch/>
        </p:blipFill>
        <p:spPr>
          <a:xfrm>
            <a:off x="351000" y="824040"/>
            <a:ext cx="685800" cy="8380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6553080" y="6019920"/>
            <a:ext cx="2285640" cy="533160"/>
            <a:chOff x="6553080" y="6019920"/>
            <a:chExt cx="2285640" cy="533160"/>
          </a:xfrm>
        </p:grpSpPr>
        <p:sp>
          <p:nvSpPr>
            <p:cNvPr id="274" name=""/>
            <p:cNvSpPr/>
            <p:nvPr/>
          </p:nvSpPr>
          <p:spPr>
            <a:xfrm flipH="1">
              <a:off x="6553080" y="6019920"/>
              <a:ext cx="2278800" cy="53316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 Play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79720" y="612720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379720" y="6019920"/>
              <a:ext cx="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418520" y="2743200"/>
            <a:ext cx="111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x: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56040" y="173844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50920" y="12812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04560" y="148320"/>
            <a:ext cx="18021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: PressPlayMessage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: PressDeleteMessage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: PressStop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55840" y="1052280"/>
            <a:ext cx="914400" cy="76320"/>
            <a:chOff x="1455840" y="1052280"/>
            <a:chExt cx="914400" cy="76320"/>
          </a:xfrm>
        </p:grpSpPr>
        <p:sp>
          <p:nvSpPr>
            <p:cNvPr id="282" name=""/>
            <p:cNvSpPr/>
            <p:nvPr/>
          </p:nvSpPr>
          <p:spPr>
            <a:xfrm>
              <a:off x="1455840" y="1128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2255400" y="1052280"/>
              <a:ext cx="114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382760" y="23472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 Alarm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455840" y="2652480"/>
            <a:ext cx="914400" cy="76320"/>
            <a:chOff x="1455840" y="2652480"/>
            <a:chExt cx="914400" cy="76320"/>
          </a:xfrm>
        </p:grpSpPr>
        <p:sp>
          <p:nvSpPr>
            <p:cNvPr id="286" name=""/>
            <p:cNvSpPr/>
            <p:nvPr/>
          </p:nvSpPr>
          <p:spPr>
            <a:xfrm>
              <a:off x="1455840" y="2728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255400" y="2652480"/>
              <a:ext cx="114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150920" y="28814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522520" y="227160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22520" y="227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22520" y="128124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22520" y="1814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8600" y="2553120"/>
            <a:ext cx="15951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PlayMessage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1: DeleteMessage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1: PlayAlarm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1: Stop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2346480"/>
            <a:ext cx="0" cy="153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6160" y="266544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84560" y="3962520"/>
            <a:ext cx="147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84560" y="4191120"/>
            <a:ext cx="185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84560" y="4419720"/>
            <a:ext cx="332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562720" y="16765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562720" y="1676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943240" y="3048120"/>
            <a:ext cx="148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00880" y="819720"/>
            <a:ext cx="1632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1: GetMessa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1.2: DeleteMessag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43600" y="3578760"/>
            <a:ext cx="32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3 * [i = 1..n]: PlayCompressedAudioBlock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1.1: PlayAlarm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285640" y="4038120"/>
            <a:ext cx="686160" cy="381600"/>
            <a:chOff x="2285640" y="4038120"/>
            <a:chExt cx="686160" cy="381600"/>
          </a:xfrm>
        </p:grpSpPr>
        <p:sp>
          <p:nvSpPr>
            <p:cNvPr id="306" name=""/>
            <p:cNvSpPr/>
            <p:nvPr/>
          </p:nvSpPr>
          <p:spPr>
            <a:xfrm flipH="1">
              <a:off x="2285640" y="4419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286000" y="403812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86000" y="4038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13372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41360" y="2437560"/>
            <a:ext cx="23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2 * [i = 1..n]: GetAudioBlock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28954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5562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1000" y="47242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248520" y="4190760"/>
            <a:ext cx="914400" cy="76320"/>
            <a:chOff x="6248520" y="4190760"/>
            <a:chExt cx="914400" cy="76320"/>
          </a:xfrm>
        </p:grpSpPr>
        <p:sp>
          <p:nvSpPr>
            <p:cNvPr id="315" name=""/>
            <p:cNvSpPr/>
            <p:nvPr/>
          </p:nvSpPr>
          <p:spPr>
            <a:xfrm>
              <a:off x="6248520" y="4267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7048080" y="4190760"/>
              <a:ext cx="114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019920" y="5333760"/>
            <a:ext cx="914400" cy="76320"/>
            <a:chOff x="6019920" y="5333760"/>
            <a:chExt cx="914400" cy="76320"/>
          </a:xfrm>
        </p:grpSpPr>
        <p:sp>
          <p:nvSpPr>
            <p:cNvPr id="318" name=""/>
            <p:cNvSpPr/>
            <p:nvPr/>
          </p:nvSpPr>
          <p:spPr>
            <a:xfrm flipH="1">
              <a:off x="6019920" y="5410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020640" y="5333760"/>
              <a:ext cx="114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5105520" y="4782240"/>
            <a:ext cx="2971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3.1 * [j := 1..2000]: PlaySampl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1.1.1 * [k :=1..2000]: PlaySampl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4480" y="368712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«self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943600" y="30477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904760" y="5181120"/>
            <a:ext cx="1295280" cy="381600"/>
            <a:chOff x="1904760" y="5181120"/>
            <a:chExt cx="1295280" cy="381600"/>
          </a:xfrm>
        </p:grpSpPr>
        <p:sp>
          <p:nvSpPr>
            <p:cNvPr id="324" name=""/>
            <p:cNvSpPr/>
            <p:nvPr/>
          </p:nvSpPr>
          <p:spPr>
            <a:xfrm flipH="1">
              <a:off x="1904400" y="5181480"/>
              <a:ext cx="1291320" cy="38124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{60 seconds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40120" y="525816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940120" y="51811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 flipV="1">
            <a:off x="2514600" y="4038120"/>
            <a:ext cx="411480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2819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9718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297180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066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543800" y="6400440"/>
            <a:ext cx="1523520" cy="381240"/>
            <a:chOff x="7543800" y="6400440"/>
            <a:chExt cx="1523520" cy="381240"/>
          </a:xfrm>
        </p:grpSpPr>
        <p:sp>
          <p:nvSpPr>
            <p:cNvPr id="333" name=""/>
            <p:cNvSpPr/>
            <p:nvPr/>
          </p:nvSpPr>
          <p:spPr>
            <a:xfrm flipH="1">
              <a:off x="7543800" y="6400800"/>
              <a:ext cx="1519200" cy="3808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udio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761320" y="64774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761320" y="64004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828800" y="2514600"/>
            <a:ext cx="19810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2971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533520"/>
            <a:ext cx="1981080" cy="99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la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2514600"/>
            <a:ext cx="19810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cor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4343400"/>
            <a:ext cx="19810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876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2971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106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286000" y="152280"/>
            <a:ext cx="6705720" cy="563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2941560"/>
            <a:ext cx="289548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03840" y="408600"/>
            <a:ext cx="1407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message = foun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/ GetAudioBlock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10368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65360" y="2103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81280" y="15699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5000" y="304560"/>
            <a:ext cx="157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laying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579132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12120" y="5560200"/>
            <a:ext cx="1520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sPlayMessage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/ PlayMessage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05720" y="96048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udio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408456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la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362320" y="808200"/>
            <a:ext cx="2361960" cy="761760"/>
            <a:chOff x="2362320" y="808200"/>
            <a:chExt cx="2361960" cy="761760"/>
          </a:xfrm>
        </p:grpSpPr>
        <p:sp>
          <p:nvSpPr>
            <p:cNvPr id="356" name=""/>
            <p:cNvSpPr/>
            <p:nvPr/>
          </p:nvSpPr>
          <p:spPr>
            <a:xfrm>
              <a:off x="2363400" y="808200"/>
              <a:ext cx="2360520" cy="761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38280" y="856800"/>
              <a:ext cx="22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LookingForMessage 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2320" y="1188360"/>
              <a:ext cx="236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o / GetMessage 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62320" y="118872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848720" y="4389480"/>
            <a:ext cx="615600" cy="762120"/>
            <a:chOff x="7848720" y="4389480"/>
            <a:chExt cx="615600" cy="762120"/>
          </a:xfrm>
        </p:grpSpPr>
        <p:sp>
          <p:nvSpPr>
            <p:cNvPr id="361" name=""/>
            <p:cNvSpPr/>
            <p:nvPr/>
          </p:nvSpPr>
          <p:spPr>
            <a:xfrm flipH="1">
              <a:off x="8151480" y="438948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8720" y="51516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848720" y="4694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58200" y="43894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6172200" y="4691880"/>
            <a:ext cx="190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j &lt; 20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/ PlaySample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9480" y="1870200"/>
            <a:ext cx="2212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delete = false and alarm =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stop =fal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/ PlayCompressedAudioBlock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91520" y="156996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65560" y="3028320"/>
            <a:ext cx="190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layingCompr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Audio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38880" y="3475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50120" y="3703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538020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952880" y="568476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952880" y="14173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14176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9840" y="3228120"/>
            <a:ext cx="1634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message = incomplet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/ GetAudioBlock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6095880"/>
            <a:ext cx="213372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layingAl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280" y="1371240"/>
            <a:ext cx="1981080" cy="1143360"/>
            <a:chOff x="152280" y="1371240"/>
            <a:chExt cx="1981080" cy="1143360"/>
          </a:xfrm>
        </p:grpSpPr>
        <p:sp>
          <p:nvSpPr>
            <p:cNvPr id="378" name=""/>
            <p:cNvSpPr/>
            <p:nvPr/>
          </p:nvSpPr>
          <p:spPr>
            <a:xfrm>
              <a:off x="152280" y="1371600"/>
              <a:ext cx="198108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280" y="1371240"/>
              <a:ext cx="19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DeletingMess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280" y="175248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2280" y="1732680"/>
              <a:ext cx="19810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entry / Stop 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o / DeleteMessage (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8640" y="71532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delete = true] / DeleteMessage 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142640" y="1066320"/>
            <a:ext cx="1143000" cy="304920"/>
            <a:chOff x="1142640" y="1066320"/>
            <a:chExt cx="1143000" cy="304920"/>
          </a:xfrm>
        </p:grpSpPr>
        <p:sp>
          <p:nvSpPr>
            <p:cNvPr id="384" name=""/>
            <p:cNvSpPr/>
            <p:nvPr/>
          </p:nvSpPr>
          <p:spPr>
            <a:xfrm flipH="1">
              <a:off x="1142640" y="106668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1143000" y="10663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705720" y="5791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722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360" y="604908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alarm = true] / PlayAl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8088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658260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stop = true or time-seconds = 60] /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60958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200400" y="5791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80880" y="66294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80880" y="6248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5791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914400" y="64771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91440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4120" y="620172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stop = true] /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685440" y="304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30481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990720" y="3657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36576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7480" y="2588040"/>
            <a:ext cx="155844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message = not-foun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/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48880" y="3197520"/>
            <a:ext cx="15156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[message = complet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/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1T19:15:58Z</dcterms:created>
  <dc:creator>MariCarmen Otero.</dc:creator>
  <dc:description/>
  <dc:language>en-US</dc:language>
  <cp:lastModifiedBy>Mari Carmen Otero.</cp:lastModifiedBy>
  <cp:lastPrinted>2001-01-25T15:44:34Z</cp:lastPrinted>
  <dcterms:modified xsi:type="dcterms:W3CDTF">2001-01-25T16:10:24Z</dcterms:modified>
  <cp:revision>168</cp:revision>
  <dc:subject/>
  <dc:title>Sin título de diapositiva</dc:title>
</cp:coreProperties>
</file>