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60D-FFA0-4F11-AD62-BDB9D175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97E-4163-4712-9D45-33E3ADDC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8FA-6BFE-4330-ABEA-1C4A89F8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217-4764-4E29-9F8F-AD513840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18C-9BF9-4B7B-BA9A-0E13C7DD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DCA5-638C-4032-91DF-48600822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3D1-7F39-465B-BCDB-7F468337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D1E-6B35-4D58-88E6-CB872B2B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B62-3058-4CA1-AA62-1A42D257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AB4-AA5A-41C1-A22F-0F069EAE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A0A-922E-4063-BBAA-C5C0C781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FCB-2F75-46F2-AA03-AC2D3629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4CE2-31FC-4425-B426-AE3A94E1C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8600"/>
            <a:ext cx="6934320" cy="624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990720"/>
            <a:ext cx="25146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hon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3200400"/>
            <a:ext cx="25146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hon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1600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3920" y="4724280"/>
            <a:ext cx="25146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s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38098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4648320"/>
            <a:ext cx="251460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600200"/>
            <a:ext cx="152388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79680" y="3320640"/>
            <a:ext cx="104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«Extends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040" y="2189880"/>
            <a:ext cx="1375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eleph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ctor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685800" cy="1143000"/>
          </a:xfrm>
          <a:prstGeom prst="rect">
            <a:avLst/>
          </a:prstGeom>
          <a:ln w="0">
            <a:noFill/>
          </a:ln>
        </p:spPr>
      </p:pic>
      <p:pic>
        <p:nvPicPr>
          <p:cNvPr id="52" name="actor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68580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248520" y="3276720"/>
            <a:ext cx="25146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dditional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2600" y="53330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219320" y="3809520"/>
            <a:ext cx="144756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19320" y="1599840"/>
            <a:ext cx="144756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9440" y="592668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5486400" y="1219320"/>
            <a:ext cx="2133360" cy="958680"/>
            <a:chOff x="5486400" y="1219320"/>
            <a:chExt cx="2133360" cy="958680"/>
          </a:xfrm>
        </p:grpSpPr>
        <p:sp>
          <p:nvSpPr>
            <p:cNvPr id="59" name=""/>
            <p:cNvSpPr/>
            <p:nvPr/>
          </p:nvSpPr>
          <p:spPr>
            <a:xfrm>
              <a:off x="5486400" y="1219320"/>
              <a:ext cx="2133360" cy="9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54440" y="1292760"/>
              <a:ext cx="198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pea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86400" y="1752480"/>
              <a:ext cx="21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86400" y="1600200"/>
              <a:ext cx="21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86400" y="179604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EmitTone (n: 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791320" y="6094800"/>
            <a:ext cx="1523880" cy="671040"/>
            <a:chOff x="5791320" y="6094800"/>
            <a:chExt cx="1523880" cy="671040"/>
          </a:xfrm>
        </p:grpSpPr>
        <p:sp>
          <p:nvSpPr>
            <p:cNvPr id="65" name=""/>
            <p:cNvSpPr/>
            <p:nvPr/>
          </p:nvSpPr>
          <p:spPr>
            <a:xfrm>
              <a:off x="5791320" y="6156360"/>
              <a:ext cx="152388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7280" y="609480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isp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791320" y="6689880"/>
              <a:ext cx="1523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91320" y="66135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858000" y="3384720"/>
            <a:ext cx="2133720" cy="958680"/>
            <a:chOff x="6858000" y="3384720"/>
            <a:chExt cx="2133720" cy="958680"/>
          </a:xfrm>
        </p:grpSpPr>
        <p:sp>
          <p:nvSpPr>
            <p:cNvPr id="70" name=""/>
            <p:cNvSpPr/>
            <p:nvPr/>
          </p:nvSpPr>
          <p:spPr>
            <a:xfrm>
              <a:off x="6858000" y="3384720"/>
              <a:ext cx="2133720" cy="9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26400" y="3458160"/>
              <a:ext cx="19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ellular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0" y="396252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0" y="381024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0" y="396144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Connect (number: pn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29000" y="4951800"/>
            <a:ext cx="2514600" cy="687960"/>
            <a:chOff x="3429000" y="4951800"/>
            <a:chExt cx="2514600" cy="687960"/>
          </a:xfrm>
        </p:grpSpPr>
        <p:sp>
          <p:nvSpPr>
            <p:cNvPr id="76" name=""/>
            <p:cNvSpPr/>
            <p:nvPr/>
          </p:nvSpPr>
          <p:spPr>
            <a:xfrm>
              <a:off x="3429000" y="4984560"/>
              <a:ext cx="2514600" cy="65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9680" y="4951800"/>
              <a:ext cx="1989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iallerDisp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429000" y="5410080"/>
              <a:ext cx="2514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29000" y="525744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29000" y="53326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DisplayDigit (n: 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162920" y="4951800"/>
            <a:ext cx="1828800" cy="687960"/>
            <a:chOff x="7162920" y="4951800"/>
            <a:chExt cx="1828800" cy="687960"/>
          </a:xfrm>
        </p:grpSpPr>
        <p:sp>
          <p:nvSpPr>
            <p:cNvPr id="82" name=""/>
            <p:cNvSpPr/>
            <p:nvPr/>
          </p:nvSpPr>
          <p:spPr>
            <a:xfrm>
              <a:off x="7162920" y="4984560"/>
              <a:ext cx="1828800" cy="65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62920" y="495180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RDisp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7162920" y="5410080"/>
              <a:ext cx="1828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62920" y="52574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62920" y="53326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InUse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676520" y="75240"/>
            <a:ext cx="914400" cy="458280"/>
            <a:chOff x="1676520" y="75240"/>
            <a:chExt cx="914400" cy="458280"/>
          </a:xfrm>
        </p:grpSpPr>
        <p:sp>
          <p:nvSpPr>
            <p:cNvPr id="88" name=""/>
            <p:cNvSpPr/>
            <p:nvPr/>
          </p:nvSpPr>
          <p:spPr>
            <a:xfrm>
              <a:off x="1676520" y="76320"/>
              <a:ext cx="9144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840" y="75240"/>
              <a:ext cx="762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ut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8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45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90720" y="836640"/>
            <a:ext cx="2361960" cy="916920"/>
            <a:chOff x="990720" y="836640"/>
            <a:chExt cx="2361960" cy="916920"/>
          </a:xfrm>
        </p:grpSpPr>
        <p:sp>
          <p:nvSpPr>
            <p:cNvPr id="93" name=""/>
            <p:cNvSpPr/>
            <p:nvPr/>
          </p:nvSpPr>
          <p:spPr>
            <a:xfrm>
              <a:off x="990720" y="869760"/>
              <a:ext cx="2285640" cy="88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58760" y="836640"/>
              <a:ext cx="198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utton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90720" y="1447560"/>
              <a:ext cx="22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90720" y="1295280"/>
              <a:ext cx="228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1446480"/>
              <a:ext cx="236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ButtonPressed () {abstract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52280" y="2132280"/>
            <a:ext cx="1676520" cy="916920"/>
            <a:chOff x="152280" y="2132280"/>
            <a:chExt cx="1676520" cy="916920"/>
          </a:xfrm>
        </p:grpSpPr>
        <p:sp>
          <p:nvSpPr>
            <p:cNvPr id="99" name=""/>
            <p:cNvSpPr/>
            <p:nvPr/>
          </p:nvSpPr>
          <p:spPr>
            <a:xfrm>
              <a:off x="152280" y="2165400"/>
              <a:ext cx="1676520" cy="88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0680" y="2132280"/>
              <a:ext cx="153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endBut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dap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2280" y="27432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280" y="259092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280" y="27421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ButtonPressed (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438280" y="2132280"/>
            <a:ext cx="1676520" cy="916920"/>
            <a:chOff x="2438280" y="2132280"/>
            <a:chExt cx="1676520" cy="916920"/>
          </a:xfrm>
        </p:grpSpPr>
        <p:sp>
          <p:nvSpPr>
            <p:cNvPr id="105" name=""/>
            <p:cNvSpPr/>
            <p:nvPr/>
          </p:nvSpPr>
          <p:spPr>
            <a:xfrm>
              <a:off x="2438280" y="2165400"/>
              <a:ext cx="1676520" cy="88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6680" y="2132280"/>
              <a:ext cx="153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igitButt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dap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38280" y="274320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8280" y="259092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8280" y="27421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ButtonPressed (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57600" y="3427920"/>
            <a:ext cx="2286000" cy="959760"/>
            <a:chOff x="3657600" y="3427920"/>
            <a:chExt cx="2286000" cy="959760"/>
          </a:xfrm>
        </p:grpSpPr>
        <p:sp>
          <p:nvSpPr>
            <p:cNvPr id="111" name=""/>
            <p:cNvSpPr/>
            <p:nvPr/>
          </p:nvSpPr>
          <p:spPr>
            <a:xfrm>
              <a:off x="3657600" y="3429000"/>
              <a:ext cx="2286000" cy="9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2320" y="3427920"/>
              <a:ext cx="19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ia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57600" y="38862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7600" y="3853080"/>
              <a:ext cx="22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Digit (n: 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+ Send 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57600" y="373356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133720" y="533520"/>
            <a:ext cx="75960" cy="339480"/>
            <a:chOff x="2133720" y="533520"/>
            <a:chExt cx="75960" cy="339480"/>
          </a:xfrm>
        </p:grpSpPr>
        <p:sp>
          <p:nvSpPr>
            <p:cNvPr id="117" name=""/>
            <p:cNvSpPr/>
            <p:nvPr/>
          </p:nvSpPr>
          <p:spPr>
            <a:xfrm>
              <a:off x="2133720" y="533520"/>
              <a:ext cx="75960" cy="152280"/>
            </a:xfrm>
            <a:prstGeom prst="diamond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70080" y="6858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838080" y="1752480"/>
            <a:ext cx="812880" cy="414360"/>
            <a:chOff x="838080" y="1752480"/>
            <a:chExt cx="812880" cy="414360"/>
          </a:xfrm>
        </p:grpSpPr>
        <p:sp>
          <p:nvSpPr>
            <p:cNvPr id="120" name=""/>
            <p:cNvSpPr/>
            <p:nvPr/>
          </p:nvSpPr>
          <p:spPr>
            <a:xfrm>
              <a:off x="1542960" y="175248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8080" y="2017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0145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596960" y="1852200"/>
              <a:ext cx="32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616120" y="1752480"/>
            <a:ext cx="812880" cy="414360"/>
            <a:chOff x="2616120" y="1752480"/>
            <a:chExt cx="812880" cy="414360"/>
          </a:xfrm>
        </p:grpSpPr>
        <p:sp>
          <p:nvSpPr>
            <p:cNvPr id="125" name=""/>
            <p:cNvSpPr/>
            <p:nvPr/>
          </p:nvSpPr>
          <p:spPr>
            <a:xfrm flipV="1" rot="10800000">
              <a:off x="2616120" y="1752480"/>
              <a:ext cx="108000" cy="10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666880" y="201780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20145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2666880" y="1852200"/>
              <a:ext cx="32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62120" y="3048120"/>
            <a:ext cx="2895480" cy="1066680"/>
            <a:chOff x="762120" y="3048120"/>
            <a:chExt cx="2895480" cy="1066680"/>
          </a:xfrm>
        </p:grpSpPr>
        <p:grpSp>
          <p:nvGrpSpPr>
            <p:cNvPr id="130" name=""/>
            <p:cNvGrpSpPr/>
            <p:nvPr/>
          </p:nvGrpSpPr>
          <p:grpSpPr>
            <a:xfrm>
              <a:off x="3048120" y="3048120"/>
              <a:ext cx="609480" cy="609480"/>
              <a:chOff x="3048120" y="3048120"/>
              <a:chExt cx="609480" cy="609480"/>
            </a:xfrm>
          </p:grpSpPr>
          <p:sp>
            <p:nvSpPr>
              <p:cNvPr id="131" name=""/>
              <p:cNvSpPr/>
              <p:nvPr/>
            </p:nvSpPr>
            <p:spPr>
              <a:xfrm>
                <a:off x="3048120" y="304812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8120" y="365760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762120" y="304812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120" y="411480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4800600" y="2209320"/>
            <a:ext cx="175248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3809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0064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1000" y="4343400"/>
            <a:ext cx="0" cy="64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572000" y="5638680"/>
            <a:ext cx="1214280" cy="846360"/>
            <a:chOff x="4572000" y="5638680"/>
            <a:chExt cx="1214280" cy="846360"/>
          </a:xfrm>
        </p:grpSpPr>
        <p:sp>
          <p:nvSpPr>
            <p:cNvPr id="140" name=""/>
            <p:cNvSpPr/>
            <p:nvPr/>
          </p:nvSpPr>
          <p:spPr>
            <a:xfrm>
              <a:off x="4572000" y="5638680"/>
              <a:ext cx="216000" cy="216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78200" y="6477120"/>
              <a:ext cx="11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78200" y="5854680"/>
              <a:ext cx="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15200" y="5649840"/>
            <a:ext cx="888840" cy="833400"/>
            <a:chOff x="7315200" y="5649840"/>
            <a:chExt cx="888840" cy="833400"/>
          </a:xfrm>
        </p:grpSpPr>
        <p:sp>
          <p:nvSpPr>
            <p:cNvPr id="144" name=""/>
            <p:cNvSpPr/>
            <p:nvPr/>
          </p:nvSpPr>
          <p:spPr>
            <a:xfrm>
              <a:off x="7315200" y="6477120"/>
              <a:ext cx="78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88400" y="5649840"/>
              <a:ext cx="215640" cy="216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96400" y="5867280"/>
              <a:ext cx="0" cy="61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914400"/>
            <a:ext cx="8381880" cy="175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522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git: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522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igit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1522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i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1522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ialler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1522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Spe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7621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7621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7621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7621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05920" y="762120"/>
            <a:ext cx="0" cy="2133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066680"/>
            <a:ext cx="152280" cy="152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1219320"/>
            <a:ext cx="1522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2193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1371600"/>
            <a:ext cx="15264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1371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1523880"/>
            <a:ext cx="1522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15238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29600" y="2057400"/>
            <a:ext cx="152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0574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57680" y="94392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tonPressed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28120" y="109620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git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25520" y="124848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playDigit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2240" y="178200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itTon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26960" y="23673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For Each Dig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32004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nd: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32004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Send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32004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i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32004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ell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32004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R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8098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38098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8098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38098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38098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114800"/>
            <a:ext cx="15228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4267080"/>
            <a:ext cx="1522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95680" y="4419720"/>
            <a:ext cx="152640" cy="1218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44197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4572000"/>
            <a:ext cx="15228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29600" y="4724280"/>
            <a:ext cx="152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47242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57680" y="399168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tonPressed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10480" y="414432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d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68280" y="429660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nect (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14680" y="44190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Us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705360" y="6019920"/>
            <a:ext cx="2210040" cy="609480"/>
            <a:chOff x="6705360" y="6019920"/>
            <a:chExt cx="2210040" cy="609480"/>
          </a:xfrm>
        </p:grpSpPr>
        <p:sp>
          <p:nvSpPr>
            <p:cNvPr id="196" name=""/>
            <p:cNvSpPr/>
            <p:nvPr/>
          </p:nvSpPr>
          <p:spPr>
            <a:xfrm flipH="1">
              <a:off x="6705000" y="6019920"/>
              <a:ext cx="2202840" cy="6094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akePhone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71520" y="614232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471520" y="6019920"/>
              <a:ext cx="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1143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git: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1143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igit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i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8006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Dialler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8006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Spea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2096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nd: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2096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SendBut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48006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Cell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5200" y="48006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</a:rPr>
              <a:t>:RT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447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2480" y="2514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1295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62320" y="2362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61200" y="99000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*: ButtonPressed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50120" y="20566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: ButtonPressed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2666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2952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1295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4880" y="9900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: Digit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1143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2514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880" y="2361600"/>
            <a:ext cx="8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1: Send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66560" y="4647600"/>
            <a:ext cx="118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1.1.1: InUse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5105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4952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05920" y="28195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4038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79640" y="4068000"/>
            <a:ext cx="156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1: DisplayDigit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2819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2819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057320" y="3276720"/>
            <a:ext cx="664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066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447920" y="3124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2760" y="29710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1.2: EmitTon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6360" y="36576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365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733920" y="3505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9120" y="335196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1.1: Connect (nu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705360" y="6019920"/>
            <a:ext cx="2210040" cy="609480"/>
            <a:chOff x="6705360" y="6019920"/>
            <a:chExt cx="2210040" cy="609480"/>
          </a:xfrm>
        </p:grpSpPr>
        <p:sp>
          <p:nvSpPr>
            <p:cNvPr id="239" name=""/>
            <p:cNvSpPr/>
            <p:nvPr/>
          </p:nvSpPr>
          <p:spPr>
            <a:xfrm flipH="1">
              <a:off x="6705000" y="6019920"/>
              <a:ext cx="2202840" cy="6094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Use c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akePhone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1520" y="614232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8471520" y="6019920"/>
              <a:ext cx="0" cy="12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3520" y="2819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9718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297180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10666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543800" y="6400440"/>
            <a:ext cx="1523520" cy="381240"/>
            <a:chOff x="7543800" y="6400440"/>
            <a:chExt cx="1523520" cy="381240"/>
          </a:xfrm>
        </p:grpSpPr>
        <p:sp>
          <p:nvSpPr>
            <p:cNvPr id="247" name=""/>
            <p:cNvSpPr/>
            <p:nvPr/>
          </p:nvSpPr>
          <p:spPr>
            <a:xfrm flipH="1">
              <a:off x="7543800" y="6400800"/>
              <a:ext cx="1519200" cy="380880"/>
            </a:xfrm>
            <a:prstGeom prst="flowChartPunchedCar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ia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61320" y="64774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1320" y="64004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828800" y="2514600"/>
            <a:ext cx="19810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2971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53352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ce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hon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251460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hon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4343400"/>
            <a:ext cx="220968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sing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4876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971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106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05120" y="152280"/>
            <a:ext cx="6705360" cy="655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86200" y="5029200"/>
            <a:ext cx="1904760" cy="1371600"/>
            <a:chOff x="3886200" y="5029200"/>
            <a:chExt cx="1904760" cy="1371600"/>
          </a:xfrm>
        </p:grpSpPr>
        <p:sp>
          <p:nvSpPr>
            <p:cNvPr id="260" name=""/>
            <p:cNvSpPr/>
            <p:nvPr/>
          </p:nvSpPr>
          <p:spPr>
            <a:xfrm>
              <a:off x="3886200" y="5029200"/>
              <a:ext cx="1904760" cy="13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21080" y="5077080"/>
              <a:ext cx="10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Ring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6200" y="5509080"/>
              <a:ext cx="19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2320" y="5542560"/>
              <a:ext cx="189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 / pla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ringing t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95680" y="4114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64000" y="2725200"/>
            <a:ext cx="225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end () [number = complet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Connect (numb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590920" y="3429000"/>
            <a:ext cx="1904760" cy="1371600"/>
            <a:chOff x="2590920" y="3429000"/>
            <a:chExt cx="1904760" cy="1371600"/>
          </a:xfrm>
        </p:grpSpPr>
        <p:sp>
          <p:nvSpPr>
            <p:cNvPr id="268" name=""/>
            <p:cNvSpPr/>
            <p:nvPr/>
          </p:nvSpPr>
          <p:spPr>
            <a:xfrm>
              <a:off x="2590920" y="3429000"/>
              <a:ext cx="1904760" cy="1371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88880" y="347904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Bu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90920" y="3908880"/>
              <a:ext cx="19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97040" y="3942360"/>
              <a:ext cx="189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 / pla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busy t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791320" y="4648320"/>
            <a:ext cx="914400" cy="1066320"/>
            <a:chOff x="5791320" y="4648320"/>
            <a:chExt cx="914400" cy="1066320"/>
          </a:xfrm>
        </p:grpSpPr>
        <p:sp>
          <p:nvSpPr>
            <p:cNvPr id="273" name=""/>
            <p:cNvSpPr/>
            <p:nvPr/>
          </p:nvSpPr>
          <p:spPr>
            <a:xfrm>
              <a:off x="6705720" y="464832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791320" y="5714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818960" y="380880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s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7010280" y="838080"/>
            <a:ext cx="1143000" cy="533520"/>
            <a:chOff x="7010280" y="838080"/>
            <a:chExt cx="1143000" cy="533520"/>
          </a:xfrm>
        </p:grpSpPr>
        <p:sp>
          <p:nvSpPr>
            <p:cNvPr id="277" name=""/>
            <p:cNvSpPr/>
            <p:nvPr/>
          </p:nvSpPr>
          <p:spPr>
            <a:xfrm flipV="1">
              <a:off x="7010280" y="838080"/>
              <a:ext cx="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10280" y="83808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53280" y="8380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772400" y="1371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548760" y="210600"/>
            <a:ext cx="1832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git (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number = incomplet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063880" y="1110240"/>
            <a:ext cx="2209680" cy="1100520"/>
            <a:chOff x="2063880" y="1110240"/>
            <a:chExt cx="2209680" cy="1100520"/>
          </a:xfrm>
        </p:grpSpPr>
        <p:sp>
          <p:nvSpPr>
            <p:cNvPr id="283" name=""/>
            <p:cNvSpPr/>
            <p:nvPr/>
          </p:nvSpPr>
          <p:spPr>
            <a:xfrm>
              <a:off x="2063880" y="1126800"/>
              <a:ext cx="2209680" cy="1066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68600" y="111024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ialT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63880" y="150804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63880" y="1506960"/>
              <a:ext cx="2120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 / pla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ial t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267080" y="1752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69480" y="13705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git 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28195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124080" y="2209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44240" y="45612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kingPhon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312408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914400" y="1980720"/>
            <a:ext cx="990720" cy="1143000"/>
            <a:chOff x="914400" y="1980720"/>
            <a:chExt cx="990720" cy="1143000"/>
          </a:xfrm>
        </p:grpSpPr>
        <p:sp>
          <p:nvSpPr>
            <p:cNvPr id="294" name=""/>
            <p:cNvSpPr/>
            <p:nvPr/>
          </p:nvSpPr>
          <p:spPr>
            <a:xfrm flipV="1">
              <a:off x="914400" y="19807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14400" y="198108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3809880"/>
            <a:ext cx="990720" cy="1219320"/>
            <a:chOff x="914400" y="3809880"/>
            <a:chExt cx="990720" cy="1219320"/>
          </a:xfrm>
        </p:grpSpPr>
        <p:sp>
          <p:nvSpPr>
            <p:cNvPr id="297" name=""/>
            <p:cNvSpPr/>
            <p:nvPr/>
          </p:nvSpPr>
          <p:spPr>
            <a:xfrm>
              <a:off x="914400" y="38098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14400" y="502920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402480" y="1277640"/>
            <a:ext cx="1421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ess (button-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GetDial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6560" y="5101920"/>
            <a:ext cx="1450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ess (button-of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 Disconn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598720" y="1065960"/>
            <a:ext cx="2173680" cy="1524960"/>
            <a:chOff x="5598720" y="1065960"/>
            <a:chExt cx="2173680" cy="1524960"/>
          </a:xfrm>
        </p:grpSpPr>
        <p:sp>
          <p:nvSpPr>
            <p:cNvPr id="302" name=""/>
            <p:cNvSpPr/>
            <p:nvPr/>
          </p:nvSpPr>
          <p:spPr>
            <a:xfrm>
              <a:off x="5639040" y="1066680"/>
              <a:ext cx="2133360" cy="152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10360" y="106596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ial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98720" y="1595880"/>
              <a:ext cx="20858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 / EmitTone (n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isplayDigit (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39040" y="1523880"/>
              <a:ext cx="21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638680" y="3656520"/>
            <a:ext cx="2133360" cy="991800"/>
            <a:chOff x="5638680" y="3656520"/>
            <a:chExt cx="2133360" cy="991800"/>
          </a:xfrm>
        </p:grpSpPr>
        <p:sp>
          <p:nvSpPr>
            <p:cNvPr id="307" name=""/>
            <p:cNvSpPr/>
            <p:nvPr/>
          </p:nvSpPr>
          <p:spPr>
            <a:xfrm>
              <a:off x="5638680" y="3657600"/>
              <a:ext cx="2133360" cy="99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1320" y="365652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nnec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14640" y="419004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o / InUse (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38680" y="4114800"/>
              <a:ext cx="21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705720" y="51044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n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1T19:15:58Z</dcterms:created>
  <dc:creator>MariCarmen Otero.</dc:creator>
  <dc:description/>
  <dc:language>en-US</dc:language>
  <cp:lastModifiedBy>Mari Carmen Otero.</cp:lastModifiedBy>
  <cp:lastPrinted>2001-01-25T16:12:57Z</cp:lastPrinted>
  <dcterms:modified xsi:type="dcterms:W3CDTF">2001-01-25T16:17:55Z</dcterms:modified>
  <cp:revision>107</cp:revision>
  <dc:subject/>
  <dc:title>Sin título de diapositiva</dc:title>
</cp:coreProperties>
</file>