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97C-E7C4-456B-8104-E09688D9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5C3-5A3A-42C8-B133-B365069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D5D-D923-40AE-B339-537EB5AB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868-078B-425E-910D-14692149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8E5A-8317-4DFD-90A4-5622E5B5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3B6-3FFC-4EC4-9CA2-D9ADF79C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CBF-2D8B-49B9-8264-69C4A248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060-F19F-4698-95F8-752D510E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A3C-B121-4FBA-A0DA-10F591BA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619-699A-4D01-9900-A886E896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068-6F21-4756-B65A-25FDA6F2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9DB-9E1D-4620-B5B7-800FB7E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C3B-A9AE-4DAC-876F-3ED354DD65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28600"/>
            <a:ext cx="6324840" cy="624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91440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3200400"/>
            <a:ext cx="60948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" y="1537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ctor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actor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00520" y="399204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219320" y="2437920"/>
            <a:ext cx="6094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219320" y="1295280"/>
            <a:ext cx="60948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205740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ser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35268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49568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2004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590920" y="28191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8120" y="28951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Use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38088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91440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mov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pdate 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205740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276720"/>
            <a:ext cx="16002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4495680"/>
            <a:ext cx="16002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5410080"/>
            <a:ext cx="2057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mov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Update  Borr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2819520"/>
            <a:ext cx="16002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actor" descr=""/>
          <p:cNvPicPr/>
          <p:nvPr/>
        </p:nvPicPr>
        <p:blipFill>
          <a:blip r:embed="rId3"/>
          <a:stretch/>
        </p:blipFill>
        <p:spPr>
          <a:xfrm>
            <a:off x="8153280" y="266688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963560" y="385416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333760" y="251424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333760" y="32004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333760" y="251424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333760" y="1371600"/>
            <a:ext cx="60948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943600" y="114264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333760" y="3200400"/>
            <a:ext cx="609480" cy="1676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9051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3200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167616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Use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9920" y="17521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Use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56240" y="271116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Use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304776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Use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9920" y="4114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Use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9240" y="46159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Use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3080" y="606384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brary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2438280" y="304920"/>
            <a:ext cx="2057400" cy="1447200"/>
            <a:chOff x="2438280" y="304920"/>
            <a:chExt cx="2057400" cy="1447200"/>
          </a:xfrm>
        </p:grpSpPr>
        <p:sp>
          <p:nvSpPr>
            <p:cNvPr id="82" name=""/>
            <p:cNvSpPr/>
            <p:nvPr/>
          </p:nvSpPr>
          <p:spPr>
            <a:xfrm>
              <a:off x="2438280" y="761760"/>
              <a:ext cx="20574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91044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38280" y="304920"/>
              <a:ext cx="83844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438280" y="2590920"/>
            <a:ext cx="2057400" cy="1447200"/>
            <a:chOff x="2438280" y="2590920"/>
            <a:chExt cx="2057400" cy="1447200"/>
          </a:xfrm>
        </p:grpSpPr>
        <p:sp>
          <p:nvSpPr>
            <p:cNvPr id="86" name=""/>
            <p:cNvSpPr/>
            <p:nvPr/>
          </p:nvSpPr>
          <p:spPr>
            <a:xfrm>
              <a:off x="2438280" y="3047760"/>
              <a:ext cx="20574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325116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usiness Objects 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8280" y="2590920"/>
              <a:ext cx="83844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438280" y="4876920"/>
            <a:ext cx="2057400" cy="1447200"/>
            <a:chOff x="2438280" y="4876920"/>
            <a:chExt cx="2057400" cy="1447200"/>
          </a:xfrm>
        </p:grpSpPr>
        <p:sp>
          <p:nvSpPr>
            <p:cNvPr id="90" name=""/>
            <p:cNvSpPr/>
            <p:nvPr/>
          </p:nvSpPr>
          <p:spPr>
            <a:xfrm>
              <a:off x="2438280" y="5333760"/>
              <a:ext cx="20574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548244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4876920"/>
              <a:ext cx="83844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 flipV="1">
            <a:off x="3505320" y="40381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505320" y="17521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248520" y="2590920"/>
            <a:ext cx="2057400" cy="1447200"/>
            <a:chOff x="6248520" y="2590920"/>
            <a:chExt cx="2057400" cy="1447200"/>
          </a:xfrm>
        </p:grpSpPr>
        <p:sp>
          <p:nvSpPr>
            <p:cNvPr id="96" name=""/>
            <p:cNvSpPr/>
            <p:nvPr/>
          </p:nvSpPr>
          <p:spPr>
            <a:xfrm>
              <a:off x="6248520" y="3047760"/>
              <a:ext cx="20574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840" y="319644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t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590920"/>
              <a:ext cx="83844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 flipV="1">
            <a:off x="4495680" y="3809880"/>
            <a:ext cx="1752840" cy="1905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1523160"/>
            <a:ext cx="1752840" cy="1676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350532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248520" y="228600"/>
            <a:ext cx="2598480" cy="1371600"/>
            <a:chOff x="6248520" y="228600"/>
            <a:chExt cx="2598480" cy="1371600"/>
          </a:xfrm>
        </p:grpSpPr>
        <p:sp>
          <p:nvSpPr>
            <p:cNvPr id="103" name=""/>
            <p:cNvSpPr/>
            <p:nvPr/>
          </p:nvSpPr>
          <p:spPr>
            <a:xfrm flipH="1">
              <a:off x="6248520" y="228600"/>
              <a:ext cx="2590560" cy="137160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his package contains the classe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Lending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turn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rvation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aintenance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25000" y="504720"/>
              <a:ext cx="52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325000" y="228600"/>
              <a:ext cx="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95680" y="10666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52280" y="74880"/>
            <a:ext cx="2003400" cy="1798920"/>
            <a:chOff x="152280" y="74880"/>
            <a:chExt cx="2003400" cy="1798920"/>
          </a:xfrm>
        </p:grpSpPr>
        <p:sp>
          <p:nvSpPr>
            <p:cNvPr id="108" name=""/>
            <p:cNvSpPr/>
            <p:nvPr/>
          </p:nvSpPr>
          <p:spPr>
            <a:xfrm>
              <a:off x="174600" y="120600"/>
              <a:ext cx="1981080" cy="173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0680" y="74880"/>
              <a:ext cx="1859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Business Object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4600" y="56340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4600" y="48636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id: inte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4600" y="79200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714240"/>
              <a:ext cx="2003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 FindOnTitl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 FindOnI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 FindOnReservation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estroy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572000" y="61920"/>
            <a:ext cx="2057040" cy="1844640"/>
            <a:chOff x="4572000" y="61920"/>
            <a:chExt cx="2057040" cy="1844640"/>
          </a:xfrm>
        </p:grpSpPr>
        <p:sp>
          <p:nvSpPr>
            <p:cNvPr id="115" name=""/>
            <p:cNvSpPr/>
            <p:nvPr/>
          </p:nvSpPr>
          <p:spPr>
            <a:xfrm>
              <a:off x="4572000" y="107640"/>
              <a:ext cx="2034720" cy="175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2200" y="61920"/>
              <a:ext cx="1909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Business Object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1250640"/>
              <a:ext cx="203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94680" y="716040"/>
              <a:ext cx="1956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name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/number-of-reserv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0" y="793440"/>
              <a:ext cx="203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1173240"/>
              <a:ext cx="2057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 Fin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 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estroy () 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200400" y="2665800"/>
            <a:ext cx="2286000" cy="1298160"/>
            <a:chOff x="3200400" y="2665800"/>
            <a:chExt cx="2286000" cy="1298160"/>
          </a:xfrm>
        </p:grpSpPr>
        <p:sp>
          <p:nvSpPr>
            <p:cNvPr id="122" name=""/>
            <p:cNvSpPr/>
            <p:nvPr/>
          </p:nvSpPr>
          <p:spPr>
            <a:xfrm>
              <a:off x="3276720" y="2698920"/>
              <a:ext cx="2133360" cy="126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44760" y="2665800"/>
              <a:ext cx="1859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Business Object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ookTit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720" y="3505320"/>
              <a:ext cx="21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0400" y="3199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 lending-time: days = 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76720" y="3200400"/>
              <a:ext cx="21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6720" y="3443760"/>
              <a:ext cx="2003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estroy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638680" y="2665800"/>
            <a:ext cx="2286000" cy="1298160"/>
            <a:chOff x="5638680" y="2665800"/>
            <a:chExt cx="2286000" cy="1298160"/>
          </a:xfrm>
        </p:grpSpPr>
        <p:sp>
          <p:nvSpPr>
            <p:cNvPr id="129" name=""/>
            <p:cNvSpPr/>
            <p:nvPr/>
          </p:nvSpPr>
          <p:spPr>
            <a:xfrm>
              <a:off x="5715000" y="2698920"/>
              <a:ext cx="2133720" cy="126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83400" y="2665800"/>
              <a:ext cx="1858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Business Object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gazineTit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350532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8680" y="3199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 lending-time: days =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320040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3443760"/>
              <a:ext cx="2003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estroy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343400" y="1863720"/>
            <a:ext cx="797040" cy="839880"/>
            <a:chOff x="4343400" y="1863720"/>
            <a:chExt cx="797040" cy="839880"/>
          </a:xfrm>
        </p:grpSpPr>
        <p:sp>
          <p:nvSpPr>
            <p:cNvPr id="136" name=""/>
            <p:cNvSpPr/>
            <p:nvPr/>
          </p:nvSpPr>
          <p:spPr>
            <a:xfrm flipV="1">
              <a:off x="4343400" y="23623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2362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11840" y="18637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029200" y="209232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985000" y="1863720"/>
            <a:ext cx="796320" cy="839880"/>
            <a:chOff x="5985000" y="1863720"/>
            <a:chExt cx="796320" cy="839880"/>
          </a:xfrm>
        </p:grpSpPr>
        <p:sp>
          <p:nvSpPr>
            <p:cNvPr id="141" name=""/>
            <p:cNvSpPr/>
            <p:nvPr/>
          </p:nvSpPr>
          <p:spPr>
            <a:xfrm flipV="1">
              <a:off x="6781320" y="2362320"/>
              <a:ext cx="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095880" y="2362320"/>
              <a:ext cx="68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985000" y="1863720"/>
              <a:ext cx="22824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6095880" y="209232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280" y="3808800"/>
            <a:ext cx="2133720" cy="1297800"/>
            <a:chOff x="152280" y="3808800"/>
            <a:chExt cx="2133720" cy="1297800"/>
          </a:xfrm>
        </p:grpSpPr>
        <p:sp>
          <p:nvSpPr>
            <p:cNvPr id="146" name=""/>
            <p:cNvSpPr/>
            <p:nvPr/>
          </p:nvSpPr>
          <p:spPr>
            <a:xfrm>
              <a:off x="152280" y="3841560"/>
              <a:ext cx="1981440" cy="1263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680" y="3808800"/>
              <a:ext cx="1859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Business Object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Lo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280" y="464796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280" y="43423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date: date = current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80" y="434340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280" y="4586400"/>
              <a:ext cx="2003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estroy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971800" y="5104080"/>
            <a:ext cx="2141640" cy="1679040"/>
            <a:chOff x="2971800" y="5104080"/>
            <a:chExt cx="2141640" cy="1679040"/>
          </a:xfrm>
        </p:grpSpPr>
        <p:sp>
          <p:nvSpPr>
            <p:cNvPr id="153" name=""/>
            <p:cNvSpPr/>
            <p:nvPr/>
          </p:nvSpPr>
          <p:spPr>
            <a:xfrm>
              <a:off x="3048120" y="5137200"/>
              <a:ext cx="1981080" cy="164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71800" y="5104080"/>
              <a:ext cx="214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Business Object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orrowerInform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8120" y="60958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70080" y="556092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name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address: st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8120" y="56386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8120" y="6049800"/>
              <a:ext cx="2003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 Fin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estroy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172200" y="5104080"/>
            <a:ext cx="2141640" cy="1677600"/>
            <a:chOff x="6172200" y="5104080"/>
            <a:chExt cx="2141640" cy="1677600"/>
          </a:xfrm>
        </p:grpSpPr>
        <p:sp>
          <p:nvSpPr>
            <p:cNvPr id="160" name=""/>
            <p:cNvSpPr/>
            <p:nvPr/>
          </p:nvSpPr>
          <p:spPr>
            <a:xfrm>
              <a:off x="6248520" y="5137200"/>
              <a:ext cx="1981080" cy="164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72200" y="5104080"/>
              <a:ext cx="214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Business Object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eserv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60199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0840" y="5637600"/>
              <a:ext cx="20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- date: date = current 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386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6018480"/>
              <a:ext cx="2003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 Fin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estroy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160720" y="914400"/>
            <a:ext cx="241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7680" y="5706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30120" y="91332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py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3733560" y="9907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59436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2040" y="60188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85720" y="601884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5485680" y="609588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863720"/>
            <a:ext cx="0" cy="198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907560" y="250884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fer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0800000">
            <a:off x="914040" y="3581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720" y="35042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127080" y="2668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y be loaned in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21337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10480" y="83808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8375040" y="27151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fer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305560" y="373356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7461000" y="2740320"/>
            <a:ext cx="183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y be reserved  in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686800" y="22860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13560" y="838080"/>
            <a:ext cx="20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5943600"/>
            <a:ext cx="38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30320" y="60188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80240" y="464724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{ordered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5105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990360" y="59436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72480" y="59425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2133360" y="6019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77520" y="56376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1371600" y="57146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1440" y="51044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609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Le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5120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609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orr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3272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Lo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168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53452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1600200"/>
            <a:ext cx="152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1600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17524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58200" y="2895480"/>
            <a:ext cx="1522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0960" y="1294560"/>
            <a:ext cx="8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Titl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3560" y="14472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nd (st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4680" y="98964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Libra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actor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1236600"/>
            <a:ext cx="0" cy="4641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447920"/>
            <a:ext cx="1526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1752480"/>
            <a:ext cx="15264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590920"/>
            <a:ext cx="1526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152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743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40960" y="2437560"/>
            <a:ext cx="87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Ite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2895480"/>
            <a:ext cx="6324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15440" y="259020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ndOnTitle (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733920"/>
            <a:ext cx="15264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886200"/>
            <a:ext cx="15264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2760" y="358056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fyBorrower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396252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11480" y="36568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nd (st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45720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24800" y="5134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create» (BorrowerInformation, 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629040" y="6019920"/>
            <a:ext cx="2210040" cy="533160"/>
            <a:chOff x="6629040" y="6019920"/>
            <a:chExt cx="2210040" cy="533160"/>
          </a:xfrm>
        </p:grpSpPr>
        <p:sp>
          <p:nvSpPr>
            <p:cNvPr id="233" name=""/>
            <p:cNvSpPr/>
            <p:nvPr/>
          </p:nvSpPr>
          <p:spPr>
            <a:xfrm flipH="1">
              <a:off x="6628680" y="6019920"/>
              <a:ext cx="220284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 LendI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95200" y="61272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3952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640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2193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14000" y="42663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nd (BorrowerInform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457200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5410080"/>
            <a:ext cx="5105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51055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900760" y="4915080"/>
            <a:ext cx="380880" cy="380880"/>
            <a:chOff x="5900760" y="4915080"/>
            <a:chExt cx="380880" cy="380880"/>
          </a:xfrm>
        </p:grpSpPr>
        <p:sp>
          <p:nvSpPr>
            <p:cNvPr id="243" name=""/>
            <p:cNvSpPr/>
            <p:nvPr/>
          </p:nvSpPr>
          <p:spPr>
            <a:xfrm flipV="1">
              <a:off x="5900760" y="4915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00760" y="4915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197440" y="48142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there is a reservation] «destroy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5410080"/>
            <a:ext cx="15264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581280" y="9907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Le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99072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Ti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0" y="281952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Borr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34320" y="373392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61320" y="190512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47720" y="224640"/>
            <a:ext cx="1540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FindTitl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: FindIte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 IdentifyBorrower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280" y="17514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Libra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actor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685800" cy="838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006160" y="1675800"/>
            <a:ext cx="163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: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ndOnTitle (Ti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8800" y="761400"/>
            <a:ext cx="121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nd (st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12200" y="4448880"/>
            <a:ext cx="27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4: «create» (BorrowerInformation, I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629040" y="6019920"/>
            <a:ext cx="2210040" cy="533160"/>
            <a:chOff x="6629040" y="6019920"/>
            <a:chExt cx="2210040" cy="533160"/>
          </a:xfrm>
        </p:grpSpPr>
        <p:sp>
          <p:nvSpPr>
            <p:cNvPr id="259" name=""/>
            <p:cNvSpPr/>
            <p:nvPr/>
          </p:nvSpPr>
          <p:spPr>
            <a:xfrm flipH="1">
              <a:off x="6628680" y="6019920"/>
              <a:ext cx="220284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 LendI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95200" y="61272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39520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273920" y="3258360"/>
            <a:ext cx="24530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2: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nd (BorrowerInform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there is a reservation] 3.3: «destroy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129528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12952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1143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2209680"/>
            <a:ext cx="224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205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19720" y="1600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12408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43240" y="2590200"/>
            <a:ext cx="12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1: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Find (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16002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40384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64832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Lo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1600200"/>
            <a:ext cx="0" cy="33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809520" y="49528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0060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14400" y="7621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743200" y="228600"/>
            <a:ext cx="3793680" cy="1295280"/>
            <a:chOff x="2743200" y="228600"/>
            <a:chExt cx="3793680" cy="1295280"/>
          </a:xfrm>
        </p:grpSpPr>
        <p:sp>
          <p:nvSpPr>
            <p:cNvPr id="283" name=""/>
            <p:cNvSpPr/>
            <p:nvPr/>
          </p:nvSpPr>
          <p:spPr>
            <a:xfrm>
              <a:off x="2743200" y="228600"/>
              <a:ext cx="3793680" cy="1295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11040" y="288000"/>
              <a:ext cx="158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NotRese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43200" y="685800"/>
              <a:ext cx="37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4400" y="897480"/>
              <a:ext cx="353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entry / number-of-reservation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219320" y="914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3429000"/>
            <a:ext cx="380988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15238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15238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02120" y="2168280"/>
            <a:ext cx="213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ke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number-of-reservation 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0800" y="2006640"/>
            <a:ext cx="21909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move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number-of-reservation = 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number-of-reservation 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048120" y="4724280"/>
            <a:ext cx="685800" cy="533520"/>
            <a:chOff x="3048120" y="4724280"/>
            <a:chExt cx="685800" cy="533520"/>
          </a:xfrm>
        </p:grpSpPr>
        <p:sp>
          <p:nvSpPr>
            <p:cNvPr id="294" name=""/>
            <p:cNvSpPr/>
            <p:nvPr/>
          </p:nvSpPr>
          <p:spPr>
            <a:xfrm>
              <a:off x="3048120" y="4724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48120" y="5257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733920" y="4724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486400" y="4724280"/>
            <a:ext cx="685800" cy="533520"/>
            <a:chOff x="5486400" y="4724280"/>
            <a:chExt cx="685800" cy="533520"/>
          </a:xfrm>
        </p:grpSpPr>
        <p:sp>
          <p:nvSpPr>
            <p:cNvPr id="298" name=""/>
            <p:cNvSpPr/>
            <p:nvPr/>
          </p:nvSpPr>
          <p:spPr>
            <a:xfrm>
              <a:off x="5486400" y="4724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86400" y="5257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172200" y="47242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79880" y="5330520"/>
            <a:ext cx="213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ke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number-of-reservation 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64200" y="5327640"/>
            <a:ext cx="21909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move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number-of-reservation &gt; 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number-of-reservation 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543800" y="6400440"/>
            <a:ext cx="1523520" cy="381240"/>
            <a:chOff x="7543800" y="6400440"/>
            <a:chExt cx="1523520" cy="381240"/>
          </a:xfrm>
        </p:grpSpPr>
        <p:sp>
          <p:nvSpPr>
            <p:cNvPr id="304" name=""/>
            <p:cNvSpPr/>
            <p:nvPr/>
          </p:nvSpPr>
          <p:spPr>
            <a:xfrm flipH="1">
              <a:off x="7543800" y="6400800"/>
              <a:ext cx="1519200" cy="3808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it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761320" y="64774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761320" y="64004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43080" y="14479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4764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47840" y="4114800"/>
            <a:ext cx="358164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n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57680" y="2209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9640" y="2209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82440" y="289440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end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94880" y="289440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turn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543800" y="6400440"/>
            <a:ext cx="1523520" cy="381240"/>
            <a:chOff x="7543800" y="6400440"/>
            <a:chExt cx="1523520" cy="381240"/>
          </a:xfrm>
        </p:grpSpPr>
        <p:sp>
          <p:nvSpPr>
            <p:cNvPr id="315" name=""/>
            <p:cNvSpPr/>
            <p:nvPr/>
          </p:nvSpPr>
          <p:spPr>
            <a:xfrm flipH="1">
              <a:off x="7543800" y="6400800"/>
              <a:ext cx="1519200" cy="3808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61320" y="64774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8761320" y="64004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147840" y="914400"/>
            <a:ext cx="358164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tOn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1T19:15:58Z</dcterms:created>
  <dc:creator>MariCarmen Otero.</dc:creator>
  <dc:description/>
  <dc:language>en-US</dc:language>
  <cp:lastModifiedBy>Mari Carmen Otero.</cp:lastModifiedBy>
  <cp:lastPrinted>2001-01-25T16:31:05Z</cp:lastPrinted>
  <dcterms:modified xsi:type="dcterms:W3CDTF">2001-01-25T16:54:59Z</dcterms:modified>
  <cp:revision>111</cp:revision>
  <dc:subject/>
  <dc:title>Sin título de diapositiva</dc:title>
</cp:coreProperties>
</file>